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4267-5D52-44CA-8150-98DC6CD92AC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E71E-0D40-4BD6-B9CC-0BD21EB4157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8991-A66E-48DB-803F-5F2E6E3C4A6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BA90-7DA1-4D8D-B36F-034A8B9C5F7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3696-94A3-49D0-8FF4-A895FC92674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314-8DC9-453E-8244-52307537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70F-A07C-4691-A059-07AABA0B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F56-575C-4C4B-A2A0-B5858C03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1B6-E346-4149-83F7-063E849D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5FEB-4D3F-4CA5-8992-283E9364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92F3-7DAE-45A2-962F-8DFCAA31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C2A0-EB48-44FB-ADD9-1A79982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7CA7-F2FC-4C0E-948B-524DCB29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6399-F950-462C-848A-986088A5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F59F-7EDA-49DF-9BAA-66E8698A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CC97-86BC-4976-A3C9-FCFBD78F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20C-15E1-498C-AFE5-F62AA932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B1D8-2B09-4C7E-854D-79875B65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CCC2-2C53-4331-B29D-0B513F8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9D19-B212-46BB-B3E6-ED00E347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27E3-4681-40AD-93F6-6B1AB671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A3C1-F914-4B00-B10F-0177EA12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4D9-6D34-4BC7-8B9B-82995659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A70-5E55-4A34-B344-86C58E57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6D4-C086-43AE-BA79-77354AF5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E0E-2994-4B02-A977-422901E8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0D4-FA99-4C0A-99FA-DB7753BE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142-CDB6-40CD-8C3D-F58EB21C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B02-E5B6-4E60-B7C3-50125B3F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B4FC-423B-4DF1-B682-E339A34D3FBF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381-B7B3-40AD-B97A-A87C94A7CFCA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5377-1DF2-4725-B16D-3086411E503B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1CF6-92B5-4EE2-83B6-3E6B0863F84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Flight Training Division. AIA 2011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clegal.co.nz/" TargetMode="External"/><Relationship Id="rId2" Type="http://schemas.openxmlformats.org/officeDocument/2006/relationships/hyperlink" Target="http://www.caa.govt.n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7991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he FPP Test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What you (or your students) need to know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Flight Training Division Present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July 2011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0120" y="620640"/>
            <a:ext cx="7626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ngoing FPP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187280" y="1628640"/>
            <a:ext cx="678348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articipants must remain fit and proper to exercise the privileges of any aviation document held (s9(3)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riteria in s10 continue to app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ilure to disclose relevant FPP informa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s an offence under the Act – s49(1)(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y itself lead to an adverse FPP determination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entury Gothic"/>
              </a:rPr>
              <a:t>New Zealand Law Society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v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</a:rPr>
              <a:t>Mitchell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[2011] NZAR 8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wyer struck off for failing to disclose 39 convi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urt of Appeal noted he may have met the FPP standard if the convictions had been disclo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7800" y="553680"/>
            <a:ext cx="779796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viation experie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1042920" y="1300320"/>
            <a:ext cx="676908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Experience in aviation industry will be increasingly relevant and carry more weight over tim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iance with s12 CA Act relevant to FPP status–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bligation on participants to comply with the Act, Rules and conditions on aviation documents (s12(2))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o exercise the privileges of aviation documents safely and in accordance with prescribed safety standards (s12(3)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Re Taylor and Department of Transport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(1978)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1 ALD 312 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Palatino Linotype"/>
              </a:rPr>
              <a:t>Administrative Appeals Tribunal of Australia posed the test in relation to assessing whether a commercial pilot remains fit and proper as follows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“</a:t>
            </a: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it is not simply a question of competence to fly an aircraft</a:t>
            </a:r>
            <a:r>
              <a:rPr b="0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… [it requires] </a:t>
            </a: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a consideration of the </a:t>
            </a: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[participant’s] conduct measured against the responsibilities, functions and duties of the holder of a commercial pilot licence </a:t>
            </a: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as they emerge from the provisions of the Air Navigation Regulations … it is clear that [those duties] include observing the interests of the safety of air navigation – not only in the interests of pilots, passengers and the owners of aircraft, but also the interests of the public at large”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Quest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692360" y="1916280"/>
            <a:ext cx="54720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sources of informati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mclegal.co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articles on FPP issues as published in </a:t>
            </a:r>
            <a:r>
              <a:rPr b="0" i="1" lang="en-NZ" sz="1800" spc="-1" strike="noStrike">
                <a:solidFill>
                  <a:srgbClr val="000000"/>
                </a:solidFill>
                <a:latin typeface="Century Gothic"/>
              </a:rPr>
              <a:t>NZ Aviation New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caa.govt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search under “F” for fit and proper pers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ersonnel Licensing Uni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900000" y="1719360"/>
            <a:ext cx="68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The FPP test in the civil aviation contex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ivil Aviation Act provis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t applies to pilots as new entran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ontinuing FPP obligations of licensed pilo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880" y="69228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in the aviation contex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826920" y="1484280"/>
            <a:ext cx="756144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y does it apply to aviation participant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tect and promot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public interest in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terests of participants in the aviation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s this achiev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y requiring participants who hold or exercise control over an aviation document to satisfy the FPP test (s9 CA Ac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y enforcing appropriate sanctions where participants do not satisfy the FPP test (s17-20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o decid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Director of Civil Aviation, the Cou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701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Civil Aviation Ac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684360" y="1700280"/>
            <a:ext cx="720072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ction 10:  The Mandatory FPP criteri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ve regard to the degree and nature of a person’s proposed involvement in the civil aviation system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 the person’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mpliance history with transport safety regulation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within transport industry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civil aviation regulatory requirement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hysical, mental health or serious behavioural issu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ictions for transport safety offences; an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evidence that a transport safety offence or breach of the Civil Aviation Rules has been committ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826920" y="1052640"/>
            <a:ext cx="698508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10 - Other relevant matter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ay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ake into account any other matter or evidence considered relev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eek and receive, and consider, any information obtained from any sour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relevant information may includ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ther criminal conviction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estimonials, references from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information from industry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weight to be given to any relevant matter, and the final FPP decision, are at the discretion of the Dir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4360" y="836640"/>
            <a:ext cx="7343640" cy="46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tion 11: Proposed adverse decis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, or notify any proposed adverse FPP decision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llow the person a reasonable opportunity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fter considering any response, notify the final decision and, if it is adverse, explain the consequence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ction 66: Appeal to the Cour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dverse FPP decisions and decisions affecting the validity or exercise of the privileges of an aviation document may be appealed to the District Cour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test applied to new pilo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900000" y="1628640"/>
            <a:ext cx="687564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 typical profile for a young student pilot applying for a PPL or CPL will b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civil aviation regulations – at the required standard for the applicable lic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ivil aviation flying experience – at or slightly above minimum required hou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Has drivers lic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ittle or no other transport sector (commercial) experi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No serious physical, mental health or behavioural concern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 such cases the Director will focus 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history of land transport infringement offences or conviction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other convictions that may be of releva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826920" y="907920"/>
            <a:ext cx="72741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Land transport infringement offenc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ne or two - unlikely to be significant concer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n-going history - will be viewed seriously and scrutini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Land Transport convictio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ill be assessed in light of all of the other FPP criteria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ore than one conviction, and/or combination of convictions and infringements – viewed seriously, increases level of scrutiny of applican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ther convict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be relevant to the licence being sought- eg drug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mbination with any transport safety offences will increase seriousness and scrutin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762120" y="620640"/>
            <a:ext cx="7127640" cy="55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ther factors that may be relevant to adverse offences histor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ength of time since or between offence(s)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rticular circumstances/seriousness of offence(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haracter references and testimonials – flight instructo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hether restrictions or conditions could address any safety concern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Points to Not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 statutory presumption that a conviction = not fit and prop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 minimum ‘conviction free period’ appli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be assessed on a case by case basis and with regard to intended role in the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dcterms:modified xsi:type="dcterms:W3CDTF">2011-07-06T00:16:36Z</dcterms:modified>
  <cp:revision>137</cp:revision>
  <dc:subject/>
  <dc:title>The FPP Test: What you need to know</dc:title>
</cp:coreProperties>
</file>