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E814-A023-45D6-BA77-CE35DB30FD65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4477-EF2B-409F-97B9-07D4E81B1AB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AD85-8C99-49BD-B672-74DB100E2E93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5594-8BD9-45AA-B538-FB7840409943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0D6E-2799-4819-9956-0BC285C88DC0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4367-1518-40DF-95DB-BC21AF99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9925-30F2-48B3-821A-F9EE35F5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6D09-C64D-42F2-8165-7D0E754E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046-0B2E-471D-8BC1-8C231A51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D6C3-0B07-4D22-B385-3C591384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CEB7-F4B2-40E0-AD98-3CF52C10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1FA1-2D1A-48B2-86AE-873C72DD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64C5-84B2-4B29-9FFB-33153F85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7EDD-344E-4E2B-B804-1792A58A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EA85-639F-4934-9092-2BC0C62A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A60E-A48F-4308-8322-AC92EB73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C1B1-61EC-4AA4-B66E-5F4F7168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CA4C-0C49-4B4A-8C64-0C16378C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940E-2376-4062-8053-4A59FA32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1B4E-C1B9-4BB1-8743-BF0B7F7C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4042-2884-424F-AAA2-6EADF1E9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35DA-0706-4FD3-941F-19C10334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C25C-56F1-40FC-A726-701C1D10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0E07-64DF-4177-BE06-A2A8DED7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993-E5C7-4D98-903C-E742602F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D785-B700-40B7-AE69-9129D53C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DB7E-63F5-4C5C-A7F9-1D23AF45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3282-6F9E-42B2-87A5-DDD72E16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0040-E06A-4C87-B080-3CA17786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2B65-2995-4D3D-A16F-AC4DE948EB01}" type="datetime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07D6-C96C-4948-BBCD-50FEAE021AA2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" name="Picture 6" descr="AMC logo plane.jpg"/>
          <p:cNvPicPr/>
          <p:nvPr/>
        </p:nvPicPr>
        <p:blipFill>
          <a:blip r:embed="rId2"/>
          <a:stretch/>
        </p:blipFill>
        <p:spPr>
          <a:xfrm>
            <a:off x="7792920" y="6093000"/>
            <a:ext cx="1059120" cy="649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5810-E39A-4FD8-AF9B-49E20ABD1D51}" type="datetime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74DA-3722-4689-9B66-37185827DDB9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AMC logo plane.jpg"/>
          <p:cNvPicPr/>
          <p:nvPr/>
        </p:nvPicPr>
        <p:blipFill>
          <a:blip r:embed="rId2"/>
          <a:stretch/>
        </p:blipFill>
        <p:spPr>
          <a:xfrm>
            <a:off x="7792920" y="6093000"/>
            <a:ext cx="1059120" cy="649080"/>
          </a:xfrm>
          <a:prstGeom prst="rect">
            <a:avLst/>
          </a:prstGeom>
          <a:ln w="0">
            <a:noFill/>
          </a:ln>
        </p:spPr>
      </p:pic>
      <p:sp>
        <p:nvSpPr>
          <p:cNvPr id="84" name="Straight Connector 10"/>
          <p:cNvSpPr/>
          <p:nvPr/>
        </p:nvSpPr>
        <p:spPr>
          <a:xfrm>
            <a:off x="395280" y="638172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Footer Placeholder 6"/>
          <p:cNvSpPr/>
          <p:nvPr/>
        </p:nvSpPr>
        <p:spPr>
          <a:xfrm>
            <a:off x="395280" y="260280"/>
            <a:ext cx="8440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a7cd39"/>
                </a:solidFill>
                <a:latin typeface="Century Gothic"/>
              </a:rPr>
              <a:t>Flight Training Division. AIA 2011 Conference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394920" y="6381360"/>
            <a:ext cx="750420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mclegal.co.nz/" TargetMode="External"/><Relationship Id="rId2" Type="http://schemas.openxmlformats.org/officeDocument/2006/relationships/hyperlink" Target="http://www.caa.govt.nz/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2852280"/>
            <a:ext cx="79912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The FPP Test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What you (or your students) need to know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31800" y="5300640"/>
            <a:ext cx="7880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a7cd39"/>
                </a:solidFill>
                <a:latin typeface="Century Gothic"/>
                <a:ea typeface="Arial"/>
              </a:rPr>
              <a:t>Flight Training Division Presentatio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a7cd39"/>
                </a:solidFill>
                <a:latin typeface="Century Gothic"/>
                <a:ea typeface="Arial"/>
              </a:rPr>
              <a:t>AIA Aviation Week Conference July 2011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4" name="Picture 3" descr="C:\Users\Angela Beazer\Documents\AMC Legal Services Ltd\AMC company info, tax, std terms of engagement\AMC logo tagline.jpg"/>
          <p:cNvPicPr/>
          <p:nvPr/>
        </p:nvPicPr>
        <p:blipFill>
          <a:blip r:embed="rId1"/>
          <a:stretch/>
        </p:blipFill>
        <p:spPr>
          <a:xfrm>
            <a:off x="3089160" y="660240"/>
            <a:ext cx="296568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90120" y="620640"/>
            <a:ext cx="7626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Ongoing FPP obligat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1187280" y="1628640"/>
            <a:ext cx="6783480" cy="40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articipants must remain fit and proper to exercise the privileges of any aviation document held (s9(3) CA Act)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riteria in s10 continue to appl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Failure to disclose relevant FPP information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is an offence under the Act – s49(1)(c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ay itself lead to an adverse FPP determination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600" spc="-1" strike="noStrike">
                <a:solidFill>
                  <a:srgbClr val="000000"/>
                </a:solidFill>
                <a:latin typeface="Century Gothic"/>
              </a:rPr>
              <a:t>New Zealand Law Society </a:t>
            </a: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v </a:t>
            </a:r>
            <a:r>
              <a:rPr b="1" i="1" lang="en-NZ" sz="1600" spc="-1" strike="noStrike">
                <a:solidFill>
                  <a:srgbClr val="000000"/>
                </a:solidFill>
                <a:latin typeface="Century Gothic"/>
              </a:rPr>
              <a:t>Mitchell </a:t>
            </a: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[2011] NZAR 81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Lawyer struck off for failing to disclose 39 convicti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ourt of Appeal noted he may have met the FPP standard if the convictions had been disclose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67800" y="553680"/>
            <a:ext cx="779796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Aviation experienc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1042920" y="1300320"/>
            <a:ext cx="6769080" cy="50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Experience in aviation industry will be increasingly relevant and carry more weight over tim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ompliance with s12 CA Act relevant to FPP status–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Obligation on participants to comply with the Act, Rules and conditions on aviation documents (s12(2)); and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To exercise the privileges of aviation documents safely and in accordance with prescribed safety standards (s12(3))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600" spc="-1" strike="noStrike">
                <a:solidFill>
                  <a:srgbClr val="000000"/>
                </a:solidFill>
                <a:latin typeface="Palatino Linotype"/>
              </a:rPr>
              <a:t>Re Taylor and Department of Transport </a:t>
            </a:r>
            <a:r>
              <a:rPr b="1" lang="en-NZ" sz="1600" spc="-1" strike="noStrike">
                <a:solidFill>
                  <a:srgbClr val="000000"/>
                </a:solidFill>
                <a:latin typeface="Palatino Linotype"/>
              </a:rPr>
              <a:t>(1978)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1 ALD 312 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Palatino Linotype"/>
              </a:rPr>
              <a:t>Administrative Appeals Tribunal of Australia posed the test in relation to assessing whether a commercial pilot remains fit and proper as follows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“</a:t>
            </a:r>
            <a:r>
              <a:rPr b="1" i="1" lang="en-NZ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it is not simply a question of competence to fly an aircraft</a:t>
            </a:r>
            <a:r>
              <a:rPr b="0" lang="en-NZ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… [it requires] </a:t>
            </a:r>
            <a:r>
              <a:rPr b="0" i="1" lang="en-NZ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a consideration of the </a:t>
            </a:r>
            <a:r>
              <a:rPr b="1" i="1" lang="en-NZ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[participant’s] conduct measured against the responsibilities, functions and duties of the holder of a commercial pilot licence </a:t>
            </a:r>
            <a:r>
              <a:rPr b="0" i="1" lang="en-NZ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as they emerge from the provisions of the Air Navigation Regulations … it is clear that [those duties] include observing the interests of the safety of air navigation – not only in the interests of pilots, passengers and the owners of aircraft, but also the interests of the public at large”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Questions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1692360" y="1916280"/>
            <a:ext cx="5472000" cy="29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Other sources of information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mclegal.co.nz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– articles on FPP issues as published in </a:t>
            </a:r>
            <a:r>
              <a:rPr b="0" i="1" lang="en-NZ" sz="1800" spc="-1" strike="noStrike">
                <a:solidFill>
                  <a:srgbClr val="000000"/>
                </a:solidFill>
                <a:latin typeface="Century Gothic"/>
              </a:rPr>
              <a:t>NZ Aviation New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ff"/>
                </a:solidFill>
                <a:uFillTx/>
                <a:latin typeface="Century Gothic"/>
                <a:hlinkClick r:id="rId2"/>
              </a:rPr>
              <a:t>www.caa.govt.nz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– search under “F” for fit and proper pers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AA Personnel Licensing Uni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7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900000" y="1719360"/>
            <a:ext cx="6840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The FPP test in the civil aviation contex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Civil Aviation Act provision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How it applies to pilots as new entrant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Continuing FPP obligations of licensed pilot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5880" y="692280"/>
            <a:ext cx="8435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PP in the aviation contex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826920" y="1484280"/>
            <a:ext cx="7561440" cy="44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Why does it apply to aviation participant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o protect and promote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public interest in aviation safet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interests of participants in the aviation system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How is this achieved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By requiring participants who hold or exercise control over an aviation document to satisfy the FPP test (s9 CA Act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By enforcing appropriate sanctions where participants do not satisfy the FPP test (s17-20 CA Act)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Who decide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Director of Civil Aviation, the Cour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7012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Civil Aviation Ac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684360" y="1700280"/>
            <a:ext cx="720072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Section 10:  The Mandatory FPP criteria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he Director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must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Have regard to the degree and nature of a person’s proposed involvement in the civil aviation system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onsider the person’s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Compliance history with transport safety regulation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Related experience within transport industry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Knowledge of civil aviation regulatory requirement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Physical, mental health or serious behavioural issue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Convictions for transport safety offences; an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Any evidence that a transport safety offence or breach of the Civil Aviation Rules has been committ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6" name="TextBox 1"/>
          <p:cNvSpPr/>
          <p:nvPr/>
        </p:nvSpPr>
        <p:spPr>
          <a:xfrm>
            <a:off x="826920" y="1052640"/>
            <a:ext cx="6985080" cy="46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s10 - Other relevant matters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he Director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may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ake into account any other matter or evidence considered releva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Seek and receive, and consider, any information obtained from any sourc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Other relevant information may include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Other criminal convictions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estimonials, references from industr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dverse information from industry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he weight to be given to any relevant matter, and the final FPP decision, are at the discretion of the Directo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84360" y="836640"/>
            <a:ext cx="7343640" cy="46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tion 11: Proposed adverse decision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he Director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must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disclose any adverse information taken into account, or notify any proposed adverse FPP decision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llow the person a reasonable opportunity to refute or comment on it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fter considering any response, notify the final decision and, if it is adverse, explain the consequences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Section 66: Appeal to the Court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Adverse FPP decisions and decisions affecting the validity or exercise of the privileges of an aviation document may be appealed to the District Cour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PP test applied to new pilot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900000" y="1628640"/>
            <a:ext cx="687564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A typical profile for a young student pilot applying for a PPL or CPL will be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Knowledge of civil aviation regulations – at the required standard for the applicable licenc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Civil aviation flying experience – at or slightly above minimum required hour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Has drivers licenc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Little or no other transport sector (commercial) experienc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No serious physical, mental health or behavioural concerns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In such cases the Director will focus on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Any history of land transport infringement offences or conviction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Any other convictions that may be of relevanc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826920" y="907920"/>
            <a:ext cx="727416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Land transport infringement offence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One or two - unlikely to be significant concer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On-going history - will be viewed seriously and scrutinise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Land Transport convictions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Will be assessed in light of all of the other FPP criteria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ore than one conviction, and/or combination of convictions and infringements – viewed seriously, increases level of scrutiny of applicant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Other conviction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ust be relevant to the licence being sought- eg drug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ombination with any transport safety offences will increase seriousness and scrutin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5" name="TextBox 1"/>
          <p:cNvSpPr/>
          <p:nvPr/>
        </p:nvSpPr>
        <p:spPr>
          <a:xfrm>
            <a:off x="762120" y="620640"/>
            <a:ext cx="7127640" cy="55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Other factors that may be relevant to adverse offences history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Length of time since or between offence(s)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Particular circumstances/seriousness of offence(s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haracter references and testimonials – flight instructor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Whether restrictions or conditions could address any safety concerns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Points to Note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 statutory presumption that a conviction = not fit and prope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 minimum ‘conviction free period’ appli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ust be assessed on a case by case basis and with regard to intended role in the system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23:40:59Z</dcterms:created>
  <dc:creator>Angela Joanne Beazer</dc:creator>
  <dc:description/>
  <dc:language>en-US</dc:language>
  <cp:lastModifiedBy>Angela Joanne Beazer</cp:lastModifiedBy>
  <dcterms:modified xsi:type="dcterms:W3CDTF">2011-07-06T00:16:36Z</dcterms:modified>
  <cp:revision>137</cp:revision>
  <dc:subject/>
  <dc:title>The FPP Test: What you need to know</dc:title>
</cp:coreProperties>
</file>