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AF3-B42A-4B13-A355-942651E1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585-CD93-4F7F-B4D3-BCD0D1A0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77C-FC7B-4318-8ED6-7FAFAEBA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B10-D56B-4223-B1BC-58CFC652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812-AA1D-4EEF-921C-9B10DF79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2A19-55AC-46A5-BA8A-B6CB94B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1FF-1239-46FD-8257-91453D3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76FD-7F50-4D07-B46F-7D3AD74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4C48-DF5B-452D-85A3-2D85B21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7CB4-B083-4B7C-8CEC-FFFB7979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6BE-D065-43AB-A1BC-3392FA01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6F5-CA00-4AA7-B354-0299A2B2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77A-AFA3-4570-94DA-38362C9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EDC4-7688-4346-99D0-52829D5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0CC6-3691-49AE-A141-572F388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886C-0BE9-4B76-A3AD-B2BBCD9A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5592-8265-44DD-B8BF-29A8AC33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685-98E8-4C6E-840A-E4FD900B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36E-6665-4AC1-B18C-965B557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CC1-151D-40E0-8803-52BDD77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0F0-1F41-4611-9743-A92B3BD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C5E-0FBC-458A-A02E-D467816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9BF-7006-4721-B6BC-BC4DEA10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BB8-F6E7-46E4-98BD-13D31F3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7F12-F443-40E6-AB74-0A9E81E7DB17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5FA-B131-4A86-9FB5-D2164EF81EA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4F9-D1EC-47E2-A904-5F26326D5BBA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B06-B988-4FEE-9F5B-F665EBEED3B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Commercial Transport/Tourist Flight Operators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need to kno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Commercial Transport/Tourist Flight Operators Present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0, s11 FPP decisions - 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826920" y="907920"/>
            <a:ext cx="7201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inancial or economic impact of adverse decision - may be considered but ‘plays second fiddle’ to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onvictions or adverse record that did not previously lead to an adverse decision – can be taken into accou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ct that person has been charged with offence – may be relevant dependent on circumsta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rsay evidence and adverse reports to CAA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McCool v Rushcliffe Borough Counci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[1998]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UK –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decision maker must not rely on 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“prejudice or assertions shown to be ill-founded or gossip or rumour… [but may rely on]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which a reasonable and fair minded decision maker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cting in good faith and with proper regard to the interests of both the public and the applicant,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uld properly think it right to rely on”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185840" y="1484280"/>
            <a:ext cx="676908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statutory bar on any person denied entry or ‘exited’ from the system in re-apply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ust consider any new applic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ctors that will influenc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previous advers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monstrated efforts to address behaviour that lead to adverse decision, e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train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ceptance of past wron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nge in attitud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matters relevant to future involvement in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015920" y="1557360"/>
            <a:ext cx="708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the FPP test; application to senior person role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continuing obligation to remain fit and prop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ter-relationship between FPP criteria and the Director’s exit pow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55640" y="1413000"/>
            <a:ext cx="77040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ry control – participants must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xit control – enforc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976320" y="1484280"/>
            <a:ext cx="684036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1990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1) mandatory FPP criteria – must have regard to the person’s role or intended role in system; and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 including any convictions, infringements or other evidence of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he transport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, and compliance with, civil aviation regulatory require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2) and (3) – Director may also consider any other matter and evidence as is considered relevant, from any source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26920" y="620640"/>
            <a:ext cx="741708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nior Person FPP assessment: CEO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– whether the senior person will safely and responsibly exercise control over the privileges of the organisation’s aviation document; and engender good aviation safety cul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aking into account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aviation system regulatory requirements or intended management structur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(if any) in the transport industry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ivil aviation regulatory compliance record – individual and/or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vidence of transport offences or other relevant convictions – eg fraud, dishonesty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nagement experience, references, testimonial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reports or inform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ntinu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000080" y="1628640"/>
            <a:ext cx="6840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9(3) – any person who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holds or has control over the exercise of any privileges of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 aviation document must continue to satisfy the fit and proper person test – condition of every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A Act obligations on participants to 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omply with the Act, Rules and conditions attached to aviation documents (s12(2)); and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arry out the functions and activities relating to aviation documents safely and in accordance with prescribed safety standards (s12(3))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ompliance key part of s15A investigations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ignificant to consideration of whether a senior person remains fit and proper to continue in rol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Disclosure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187280" y="1628640"/>
            <a:ext cx="6409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tinuing obligation to disclose any information relevant to mandatory s10(1) criteria – eg subsequent conviction for a driving offenc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information about FPP statu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ld itself lead or contribute to an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urt of Appeal noted he may have met the FPP standard to practice law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criteria and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900000" y="1341360"/>
            <a:ext cx="73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suspend, impose conditions or revoke aviation document on fit and proper person ground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1) – grounds for initial suspension include contravening or failing to comply with s49 b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holder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of aviation docume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4) and s18 powers to suspend, impose conditions (for a specified period or permanently) or revoke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19(2) – Criteria for use of those powers include any conviction, or evidence of transport safety offences committed, or non-compliance with transport safety regulations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 19(3) –Any other relevant matter or evidence about the person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= Clear inter-relationship between FPP criteria and exit powers against i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ndividual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who hold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26920" y="1125360"/>
            <a:ext cx="73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Use of exit powers where a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senior person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s no longer considered fit and proper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withdraw senior person approval on FPP ground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bsent any other widespread evidence of organisational non-compliance history, this may not justify use of s17-18 powers against the organisat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rovided affected senior person can be replaced, organisation should be permitted to continue to operat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Withdrawal of all senior persons approvals = may justify use of exit powers against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8:32Z</dcterms:modified>
  <cp:revision>84</cp:revision>
  <dc:subject/>
  <dc:title>The FPP Test: What you need to know</dc:title>
</cp:coreProperties>
</file>