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D6A-0AE1-44BC-AB6C-EF1ECE75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EA2-906D-446A-A3AB-F4BDE84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834-BBEE-405F-A74C-99F824F8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F13-ABD1-4595-8347-0E169D27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CAAB-D9FF-40C3-AECB-238D6603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9D62-CE55-4EC5-978A-213BE89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E408-2901-4DDD-B48C-78FA665E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310-4622-4444-B1F1-F64BBAE5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6416-4EA8-499C-BCA4-F2204EA9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9E1-CA98-45B4-86B7-BB30C45E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32AF-07BF-495C-8213-E616C25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449-71C2-4BAD-963A-0EC7C34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E971-EE7B-471F-9F13-CE08098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2F1B-84E3-4055-8506-37F06B3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AD7E-7EEC-4CA2-9CAE-75F3D3F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60E5-959A-4558-A419-4A11BBB9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9631-9EB9-41FA-9A72-E7314937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782-7BB3-4FCE-B8D9-5F91BDC8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2E0-B747-4F67-A7E6-F664F31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470-0B2D-4FB0-8159-09F6ED5A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B61-8846-410A-BA8D-7CD1EDCF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B96-1DB6-4394-AE57-6D15840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818-6648-45A7-BE64-A85EC268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7B2-0A3E-4D28-B4A2-3540ECE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3BC0-3A8A-44F7-B157-885EE1DEAE12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F23E-BB97-4F25-BB6A-B52F457396F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F74C-19D3-41C7-A39D-74934FDAE83C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2139-B08B-4125-801D-FB139F41B92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Commercial Transport/Tourist Flight Operators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need to kno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Commercial Transport/Tourist Flight Operators Present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0, s11 FPP decisions - 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826920" y="907920"/>
            <a:ext cx="72010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inancial or economic impact of adverse decision - may be considered but ‘plays second fiddle’ to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onvictions or adverse record that did not previously lead to an adverse decision – can be taken into accou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ct that person has been charged with offence – may be relevant dependent on circumsta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earsay evidence and adverse reports to CAA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McCool v Rushcliffe Borough Counci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[1998]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UK –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decision maker must not rely on 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“prejudice or assertions shown to be ill-founded or gossip or rumour… [but may rely on]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which a reasonable and fair minded decision maker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acting in good faith and with proper regard to the interests of both the public and the applicant,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uld properly think it right to rely on”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185840" y="1484280"/>
            <a:ext cx="676908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statutory bar on any person denied entry or ‘exited’ from the system in re-apply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ust consider any new applic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ctors that will influenc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previous advers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emonstrated efforts to address behaviour that lead to adverse decision, e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train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habilit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ceptance of past wron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nge in attitud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matters relevant to future involvement in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015920" y="1557360"/>
            <a:ext cx="708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the FPP test; application to senior person role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continuing obligation to remain fit and prop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Inter-relationship between FPP criteria and the Director’s exit power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755640" y="1413000"/>
            <a:ext cx="77040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ry control – participants must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xit control – enforc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976320" y="1484280"/>
            <a:ext cx="684036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1990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1) mandatory FPP criteria – must have regard to the person’s role or intended role in system; and: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 including any convictions, infringements or other evidence of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he transport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, and compliance with, civil aviation regulatory require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2) and (3) – Director may also consider any other matter and evidence as is considered relevant, from any source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26920" y="620640"/>
            <a:ext cx="741708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nior Person FPP assessment: CEO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– whether the senior person will safely and responsibly exercise control over the privileges of the organisation’s aviation document; and engender good aviation safety cul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aking into account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aviation system regulatory requirements or intended management structur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(if any) in the transport industry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ivil aviation regulatory compliance record – individual and/or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vidence of transport offences or other relevant convictions – eg fraud, dishonesty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nagement experience, references, testimonial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reports or inform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ontinu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1000080" y="1628640"/>
            <a:ext cx="6840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9(3) – any person who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holds or has control over the exercise of any privileges of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 aviation document must continue to satisfy the fit and proper person test – condition of every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A Act obligations on participants to 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omply with the Act, Rules and conditions attached to aviation documents (s12(2)); and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arry out the functions and activities relating to aviation documents safely and in accordance with prescribed safety standards (s12(3))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ompliance key part of s15A investigations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ignificant to consideration of whether a senior person remains fit and proper to continue in rol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Disclosure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187280" y="1628640"/>
            <a:ext cx="64090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tinuing obligation to disclose any information relevant to mandatory s10(1) criteria – eg subsequent conviction for a driving offenc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information about FPP statu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ld itself lead or contribute to an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urt of Appeal noted he may have met the FPP standard to practice law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criteria and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900000" y="1341360"/>
            <a:ext cx="73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suspend, impose conditions or revoke aviation document on fit and proper person ground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1) – grounds for initial suspension include contravening or failing to comply with s49 b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holder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of aviation docume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4) and s18 powers to suspend, impose conditions (for a specified period or permanently) or revoke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19(2) – Criteria for use of those powers include any conviction, or evidence of transport safety offences committed, or non-compliance with transport safety regulations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 19(3) –Any other relevant matter or evidence about the person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= Clear inter-relationship between FPP criteria and exit powers against i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ndividual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who hold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826920" y="1125360"/>
            <a:ext cx="73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Use of exit powers where a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senior person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s no longer considered fit and proper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withdraw senior person approval on FPP ground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bsent any other widespread evidence of organisational non-compliance history, this may not justify use of s17-18 powers against the organisat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rovided affected senior person can be replaced, organisation should be permitted to continue to operat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Withdrawal of all senior persons approvals = may justify use of exit powers against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8:32Z</dcterms:modified>
  <cp:revision>84</cp:revision>
  <dc:subject/>
  <dc:title>The FPP Test: What you need to know</dc:title>
</cp:coreProperties>
</file>