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9AA-C6C7-428B-836A-02CA5935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57F-A8AE-4B94-859B-17D8B817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84F-9D99-47B0-97B9-968B6D37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6E7-076C-4250-8C86-47B415B2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0715-7B61-4E36-B349-D0D26809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EC5-B45F-4FB0-94A5-84744F0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F1CD-82D8-424D-ACCD-F47C235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0731-D090-484D-99DC-50FAD09E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88AA-8E32-4DF9-BE19-D9AAC9C4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A02F-DD16-4550-AAB4-46709F25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B05E-7D28-43EC-8054-3A7AA4B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BB3-F73D-4096-A300-04071098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BFE-4B66-4B3E-BBA9-2AFB8764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AE3A-1B1B-4F3E-B1BF-F33EF24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BB84-CA07-4D7B-AAAC-6CEAEEE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34C-379E-4BCC-BD4B-07F31D90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7329-99CC-4603-8162-71938BF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988-0429-4531-99B2-8F122AF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F8A-0233-4383-A271-6D26102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AF4-52DC-487B-89A8-2FAF8658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42D-E279-447A-BAD2-DD01B224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745-76C3-44B4-93A9-895ACE6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969-8B97-48AE-89CD-687F9DF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59A-E2A9-403F-BBA9-015B103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DE14-2FF0-4AF3-9C1E-F73482468D99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AF2B-F6B3-47D9-9642-6D1E01313DD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0DD3-6F46-4BC2-81A9-36409DB48075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5F06-41ED-4123-A18A-FB4367B6FB7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Commercial Transport/Tourist Flight Operators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need to kno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Commercial Transport/Tourist Flight Operators Present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0, s11 FPP decisions - 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826920" y="907920"/>
            <a:ext cx="72010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inancial or economic impact of adverse decision - may be considered but ‘plays second fiddle’ to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onvictions or adverse record that did not previously lead to an adverse decision – can be taken into accou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ct that person has been charged with offence – may be relevant dependent on circumsta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earsay evidence and adverse reports to CAA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McCool v Rushcliffe Borough Counci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[1998]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UK –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decision maker must not rely on 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“prejudice or assertions shown to be ill-founded or gossip or rumour… [but may rely on]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which a reasonable and fair minded decision maker</a:t>
            </a:r>
            <a:r>
              <a:rPr b="0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acting in good faith and with proper regard to the interests of both the public and the applicant,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uld properly think it right to rely on”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185840" y="1484280"/>
            <a:ext cx="676908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statutory bar on any person denied entry or ‘exited’ from the system in re-apply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ust consider any new applic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ctors that will influenc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previous adverse decis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emonstrated efforts to address behaviour that lead to adverse decision, e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train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habilit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ceptance of past wron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nge in attitud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matters relevant to future involvement in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015920" y="1557360"/>
            <a:ext cx="708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the FPP test; application to senior person role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continuing obligation to remain fit and prop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Inter-relationship between FPP criteria and the Director’s exit power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e-entry into the syste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755640" y="1413000"/>
            <a:ext cx="77040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ry control – participants must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xit control – enforc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976320" y="1484280"/>
            <a:ext cx="684036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1990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1) mandatory FPP criteria – must have regard to the person’s role or intended role in system; and: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 including any convictions, infringements or other evidence of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he transport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, and compliance with, civil aviation regulatory require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10(2) and (3) – Director may also consider any other matter and evidence as is considered relevant, from any source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26920" y="620640"/>
            <a:ext cx="741708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nior Person FPP assessment: CEO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– whether the senior person will safely and responsibly exercise control over the privileges of the organisation’s aviation document; and engender good aviation safety cul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aking into account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aviation system regulatory requirements or intended management structur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(if any) in the transport industry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st civil aviation regulatory compliance record – individual and/or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vidence of transport offences or other relevant convictions – eg fraud, dishonesty off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nagement experience, references, testimonial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reports or inform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ontinu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1000080" y="1628640"/>
            <a:ext cx="6840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9(3) – any person who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holds or has control over the exercise of any privileges of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 aviation document must continue to satisfy the fit and proper person test – condition of every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A Act obligations on participants to 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omply with the Act, Rules and conditions attached to aviation documents (s12(2)); and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arry out the functions and activities relating to aviation documents safely and in accordance with prescribed safety standards (s12(3))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2 compliance key part of s15A investigations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ignificant to consideration of whether a senior person remains fit and proper to continue in rol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Disclosure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187280" y="1628640"/>
            <a:ext cx="64090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tinuing obligation to disclose any information relevant to mandatory s10(1) criteria – eg subsequent conviction for a driving offenc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information about FPP statu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ld itself lead or contribute to an adverse FPP determin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8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urt of Appeal noted he may have met the FPP standard to practice law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FPP criteria and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900000" y="1341360"/>
            <a:ext cx="73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suspend, impose conditions or revoke aviation document on fit and proper person ground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1) – grounds for initial suspension include contravening or failing to comply with s49 b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holder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of aviation docume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7(4) and s18 powers to suspend, impose conditions (for a specified period or permanently) or revoke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19(2) – Criteria for use of those powers include any conviction, or evidence of transport safety offences committed, or non-compliance with transport safety regulations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 19(3) –Any other relevant matter or evidence about the person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= Clear inter-relationship between FPP criteria and exit powers against i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ndividual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who hold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826920" y="1125360"/>
            <a:ext cx="73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Use of exit powers where a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senior person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s no longer considered fit and proper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withdraw senior person approval on FPP ground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bsent any other widespread evidence of organisational non-compliance history, this may not justify use of s17-18 powers against the organisat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rovided affected senior person can be replaced, organisation should be permitted to continue to operat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Withdrawal of all senior persons approvals = may justify use of exit powers against organis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8:32Z</dcterms:modified>
  <cp:revision>84</cp:revision>
  <dc:subject/>
  <dc:title>The FPP Test: What you need to know</dc:title>
</cp:coreProperties>
</file>