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F02E-63AC-4B1D-AF64-367871A8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7A32-0D9E-4AA9-B0DE-6A305823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AFB7-9FFF-4F34-ABC8-E30EEA18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167-38C5-409C-BF01-FDC4B582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A590-4DE6-4E00-BC8C-ECEE7603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F3AE-F376-42BD-B625-933AAA90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F409-FD1B-42B5-9CF9-140FC1F8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B724-B91B-4313-B527-8C3C9622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7763-0723-412D-AB1D-B9696835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4BA3-0102-4DBF-8DAD-75434A5A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CB48-102C-40A4-8543-784EA7F8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1B31-F42D-43C5-ABAF-B666394C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126A-2ADA-4231-B137-B5808B29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7485-0B79-4E2F-A531-0B1177F2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90A8-D268-41DC-A8AF-E61B9CFC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9A57-6BBF-4D1A-B41B-46B95982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D20F-D508-4D82-8829-40E48FFA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FA72-7163-4F5F-B8BC-386F5290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B917-AF8F-43ED-BA9C-A9B749EC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BFFE-2016-406F-BE1D-8D264A5E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8F10-2582-4145-A90C-A708D4AE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2802-E8EF-4BD7-AA2C-AF977D39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E362-1C82-4BED-A26C-88057311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19EA-1554-43D3-92DC-35EC3552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CE42-A83D-4F96-8457-FD27F2ED2B45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5183-0E9D-4CF0-800C-483DD1BADD6C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C6C1-CB85-4580-89DB-72E079D0B7CD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314F-8137-404F-9A50-8C61CC6EF549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84" name="Straight Connector 10"/>
          <p:cNvSpPr/>
          <p:nvPr/>
        </p:nvSpPr>
        <p:spPr>
          <a:xfrm>
            <a:off x="395280" y="6381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Footer Placeholder 6"/>
          <p:cNvSpPr/>
          <p:nvPr/>
        </p:nvSpPr>
        <p:spPr>
          <a:xfrm>
            <a:off x="395280" y="260280"/>
            <a:ext cx="8440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a7cd39"/>
                </a:solidFill>
                <a:latin typeface="Century Gothic"/>
              </a:rPr>
              <a:t>Air Transport Division. AIA 2012 conference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394920" y="6381360"/>
            <a:ext cx="75042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9440" y="2852280"/>
            <a:ext cx="784512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Powers, rights and obligations: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Dealing with the CAA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31800" y="5300640"/>
            <a:ext cx="7880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a7cd39"/>
                </a:solidFill>
                <a:latin typeface="Century Gothic"/>
                <a:ea typeface="Arial"/>
              </a:rPr>
              <a:t>Air Transport Division Presentatio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a7cd39"/>
                </a:solidFill>
                <a:latin typeface="Century Gothic"/>
                <a:ea typeface="Arial"/>
              </a:rPr>
              <a:t>AIA Aviation Week Conference August 2012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Picture 3" descr="C:\Users\Angela Beazer\Documents\AMC Legal Services Ltd\AMC company info, tax, std terms of engagement\AMC logo tagline.jpg"/>
          <p:cNvPicPr/>
          <p:nvPr/>
        </p:nvPicPr>
        <p:blipFill>
          <a:blip r:embed="rId1"/>
          <a:stretch/>
        </p:blipFill>
        <p:spPr>
          <a:xfrm>
            <a:off x="3089160" y="660240"/>
            <a:ext cx="296568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General Power of Entr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611280" y="1488960"/>
            <a:ext cx="748980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Right of access- s24(1)</a:t>
            </a:r>
            <a:br>
              <a:rPr sz="2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ny person authorised by the Director ha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right of access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t any reasonable time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to any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Aircraft, aerodrome, building or place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(not being a dwellinghouse or marae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Document or record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 concerning any aircraft, aeronautical product, or aviation related servic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Right of entry - s24(2)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ny person duly authorised by the Director ha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right of entry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t any reasonable time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to any aircraft, aerodrome, building or place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(excluding dwellinghouse or marae)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if there are reasonable grounds to believe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Act or Rules are about to be breached;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 condition of an aviation document breached;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Unsafe situation constituting danger to safety exis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What this mea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611280" y="1488960"/>
            <a:ext cx="74898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Right of access- s24(1)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If requested by an authorised person you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ust provide access to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-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any aircraft, aerodrome, building or place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(excluding dwellinghouse) - requires physical entry; and/or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any document or record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ncerning any aircraft, aeronautical product, or aviation related service - may require physical inspection or to provide copi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At a “reasonable time”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= depends on the circumstances and nature of the access sought – you have a duty to reasonably assist and not obstruct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ost commonly used in relation to s15 and s15A power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766800" y="620640"/>
            <a:ext cx="755964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Right of entry - s24(2)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If requested by a duly authorised person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ho informs you that they are exercising their s24(2) powers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, you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ust </a:t>
            </a:r>
            <a:br>
              <a:rPr sz="1800"/>
            </a:b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llow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entry to any aircraft, aerodrome, building or place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(warrant required for dwellinghouse)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At a reasonable time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= in light of the purpose of this power, is likely to  be based on assessment of the person exercising power; generally will require entry immediately or as soon as practicable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S24(3) person exercising rights under s24(1) and (2) may require any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person in possession of documents to produce or surrender them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uthority must be shown on entry or on reques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se powers subject to TAIC jurisdic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Law Enforcemen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1187280" y="1557360"/>
            <a:ext cx="6697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conduct law enforcement investigations derived from general power under s72I to enforce the Act and Rules, including offence provis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If believed evidence about an offence exists, a warrant to search for that evidence at specified location(s) will usually be obtained from the Cour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te Director can also rely on s24(1) and (3) to obtain and access records; and in limited circumstances on s24(2) to gain entry to premises without a warra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 obligation to attend law enforcement interview or to answer any questions, however 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dverse inferences or conclusions may be drawn about alleged offending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71640" y="765000"/>
            <a:ext cx="7343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n-cooperation may influence Director’s attitude to prosecution or otherwise dealing with breaches; and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cknowledgement of clear cases of breaches = can be taken into account as mitigating factors in sentencing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Decision on whether to attend interview and answer questions is finely balance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Decision may also be influenced/complicated by whether a concurrent s15A investigation is being undertake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dvice should be sought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before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committing to interview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960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Safety Investigation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1042920" y="1628640"/>
            <a:ext cx="748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ection 26 obligation of pilot and operator to –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tify accident or incident, or a search and rescue operation, to the Authority as soon as practicable; and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o provide such further information to the Authority as is requeste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art 12 Civil Aviation Rul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51 - notification requirements in relation to an accid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53 – 10 days to provide further details about accid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55 – notification of incidents required by operator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57 – notification of further details of incident and timefram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59 – obligation of operators to investigate incidents and report to CAA within 90 days (unless advised not to, or TAIC is investigating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ersons submitting information under 12.55 and 12.57 may request confidentialit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971640" y="765000"/>
            <a:ext cx="734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12.63 Non Prosecution</a:t>
            </a:r>
            <a:br>
              <a:rPr sz="1800"/>
            </a:b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Information submitted under Part 12 to the Authority may not be used for prosecution purposes unles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information reveals behaviour constituting unnecessary endangerm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False information is submitte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Authority is obliged by court order or other statutory requirement to release the information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latter situation could conceivably include a warrant obtained by the police or other agency (eg the police); or the Department of Labour (Health and Safety enforcement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te – Information supplied to TAIC cannot be used for other purposes by any other agency, including prosecu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826920" y="768240"/>
            <a:ext cx="7490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Preservation of Aircraft and Records under part 12</a:t>
            </a:r>
            <a:br>
              <a:rPr sz="1800"/>
            </a:b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101 - Duty not to remove, access, interfere with an aircraft or its contents after an accident unless authorised by Authorit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is is subject to right to remove persons, livestock or wreckage or take other steps to secure aircraft if necessary to ensure safety, provided certain precautions take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uthority has right after accident to access, secure, inspect or remove an aircraft or its contents, subject to TAIC jurisdic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103 – Duty to preserve all aircraft records including all recording media on aircraft for at least 14 days following accident or serious incid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12.105 – duty to retain defective product or component for at least 14 days after submitting defect report to CAA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Offence provis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684360" y="1557360"/>
            <a:ext cx="763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44A Failure to comply with s15 inspection or monitoring request – substantial fines including for continuing non-complianc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49 – Failure to disclose relevant information or providing false information – fines and up to 12 months imprisonm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50 - Obstruction of duly authorised person carrying out Director’s functions – fine and up to 3 months imprisonm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50A – Failure to comply with s24(3) requirement to produce or surrender documen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52 – Failure to maintain accurate records – fin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52A – Failure to notify emergency breach of rules - fin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52B – Failure to notify accident or incident under s 26 – fin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Director’s exit power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900000" y="1347840"/>
            <a:ext cx="73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s17 – 20 Power to suspend, impose conditions or revoke aviation docum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May follow single incident or series of incidents; may follow s15A investigation but not necessaril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Exercise of exit powers (other than suspension or temporary conditions) subject to s11 Proposed Adverse Decision proces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If exited from system, no bar to re-entry or minimum time frame, however re-entry subject to Director’s assessment of suitability (time since events leading to exit, subsequent behaviour, FPP assessment etc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Key obligations to bear in mind – s12 obligations and s10 FPP requirements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639360"/>
            <a:ext cx="5948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900000" y="1413000"/>
            <a:ext cx="741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</a:rPr>
              <a:t>Role of the Minister and CAA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</a:rPr>
              <a:t>Director’s power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Inspection and monitoring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s15A investigat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S24 General power of access and entry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Law Enforcement investigat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Safety Investigat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</a:rPr>
              <a:t>Offence provis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</a:rPr>
              <a:t>Exit powers and adverse decis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</a:rPr>
              <a:t>Avenues of redres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6280" y="681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Proposed adverse decis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811080" y="1628640"/>
            <a:ext cx="755964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Director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must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isclose any adverse information taken into account and allow the person to refute or comment on it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tify any proposed adverse decision, and consider any submissions, in accordance with s11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tify the final decision and, if it is adverse, explain the consequenc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66 – Right of appeal against adverse decisions affecting validity and exercise of privileges of aviation documen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te - currently no direct right of appeal by senior person against adverse FPP determination/decision not to approve senior pers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Avenues of Redres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1187280" y="1628640"/>
            <a:ext cx="64090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Official Information Act/Privacy Act reques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omplain/elevate matters within CAA – senior management; Directo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onsider approach to Board/Ministe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ervice Charter Complai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Ombudsmen investig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Recourse to the Courts – statutory appeal rights, judicial review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entury Gothic"/>
              </a:rPr>
              <a:t>See </a:t>
            </a:r>
            <a:r>
              <a:rPr b="1" lang="en-NZ" sz="1200" spc="-1" strike="noStrike">
                <a:solidFill>
                  <a:srgbClr val="000000"/>
                </a:solidFill>
                <a:latin typeface="Century Gothic"/>
              </a:rPr>
              <a:t>NZ Aviation News </a:t>
            </a:r>
            <a:r>
              <a:rPr b="1" i="1" lang="en-NZ" sz="1200" spc="-1" strike="noStrike">
                <a:solidFill>
                  <a:srgbClr val="000000"/>
                </a:solidFill>
                <a:latin typeface="Century Gothic"/>
              </a:rPr>
              <a:t>The</a:t>
            </a:r>
            <a:r>
              <a:rPr b="1" lang="en-NZ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en-NZ" sz="1200" spc="-1" strike="noStrike">
                <a:solidFill>
                  <a:srgbClr val="000000"/>
                </a:solidFill>
                <a:latin typeface="Century Gothic"/>
              </a:rPr>
              <a:t>Legal Lounge </a:t>
            </a:r>
            <a:r>
              <a:rPr b="1" lang="en-NZ" sz="1200" spc="-1" strike="noStrike">
                <a:solidFill>
                  <a:srgbClr val="000000"/>
                </a:solidFill>
                <a:latin typeface="Century Gothic"/>
              </a:rPr>
              <a:t>articles</a:t>
            </a:r>
            <a:r>
              <a:rPr b="0" lang="en-NZ" sz="1200" spc="-1" strike="noStrike">
                <a:solidFill>
                  <a:srgbClr val="000000"/>
                </a:solidFill>
                <a:latin typeface="Century Gothic"/>
              </a:rPr>
              <a:t>, December 2011 for more discussion on the different focus and obligations during administrative, safety and law enforcement investigations; and October 2011 for more information on avenues of redress; earlier articles also discuss FPP and prosecution issues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Role of the Minister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116000" y="1484280"/>
            <a:ext cx="684072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Minister of Transport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4 Objective: carry out functions in a way that contributes to aim of achieving an integrated, safe, responsive and sustainable transport system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4A Functions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o promote safety in civil avi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dminister NZ’s participation in ICAO and other international agreements on civil avi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dminister any Crown interests in aerodrom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o make the Civil Aviation Rul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Bears ultimate responsibility for establishment of search and rescue centre for maritime and aviation search and rescue operat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Role of the CA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1116000" y="1395360"/>
            <a:ext cx="7128000" cy="47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CAA: Crown Entity, Minister appointed board (“the Authority”)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72AA Objective: to undertake its safety and security functions in a way that… achieves an integrated, safe, responsive and sustainable transport system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72B Functions: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romotion of civil aviation safety and security in NZ and internationally; including education func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aintain records, ensure publication of aeronautical char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o investigate civil aviation accidents and incidents (subject to TAIC jurisdiction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1560" y="685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042920" y="765000"/>
            <a:ext cx="734544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stablish and carry out Aviation Security Service funct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stablish and publish CAA Service Charte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rovide information and advice to the Minister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nter into technical or operational agreements with other ICAO states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ppoint the Director of Civil Avi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Authority must, if directed by the Minister (s72B)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Operate and maintain the search and rescue centre, or participate in a search and rescue oper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Implement a government policy if directed to under the Crown Entities Ac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irector’s power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378080"/>
            <a:ext cx="68407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Overview of powers (s 72I)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exercise control over entry into the system through granting of aviation documents (ss6 – 9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carry out inspections and monitoring of participants in the system(s15)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conduct investigations of aviation document holders to ensure compliance with the Civil Aviation Act or Rules (s15A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take action to enforce the Civil Aviation Act or Rules, which may be through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Law enforcement action for breach of the Act or Rules; and/o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971640" y="765000"/>
            <a:ext cx="7343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dministrative action against aviation document holders (ss17-20) (exit control powers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detain or seize aircraft or aeronautical products if it may endanger persons or property (s21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issue airworthiness directives in respect of an unsafe condition in an aircraft or aeronautical produc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Director may delegate his powers to employees except for s18 power to revoke aviation documents; with the Minister’s consent external contractors may also be delegated most power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Note –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In exercising the Director’s statutory powers the Director must act independently of the Minister and Authority = Minister and Authority cannot  intervene in specific decisions (eg in a decision to revoke or suspend an aviation document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Inspection and monitoring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768240" y="1557360"/>
            <a:ext cx="72597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5(1) - Power to require participants to undergo such inspection and monitoring as considered “necessary in the interests of aviation safety”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5(3) – Director may request such information as is considered necessary as part of inspection and monitoring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AA practice -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outine annual audit of certified organisat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outine annual inspections of other organisat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argeted or random inspections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Focus on exposition (certified operators) or compliance with rules and ops manual (uncertified operators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Question – Risk Surveillance approach – move to targeted auditing of operators based on risk – is this happening?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Investigation power (s15A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768240" y="1557360"/>
            <a:ext cx="705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require holder of aviation document to undergo investigation if the Director –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as reasonable grounds to believe holder of aviation document failing to comply with section 12 or conditions on aviation document; or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nsiders the privileges or duties pertaining to the document are being carried out carelessly or incompetentl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ature of s15A investigation – administrative - linked to entry and exit control power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Focus on s12 (requirements on participants to comply with CA Act and Rules) and s10 (FPP requirements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23:40:59Z</dcterms:created>
  <dc:creator>Angela Joanne Beazer</dc:creator>
  <dc:description/>
  <dc:language>en-US</dc:language>
  <cp:lastModifiedBy>Angela Joanne Beazer</cp:lastModifiedBy>
  <cp:lastPrinted>2012-08-09T02:38:27Z</cp:lastPrinted>
  <dcterms:modified xsi:type="dcterms:W3CDTF">2012-08-11T06:07:15Z</dcterms:modified>
  <cp:revision>131</cp:revision>
  <dc:subject/>
  <dc:title>The FPP Test: What you need to know</dc:title>
</cp:coreProperties>
</file>