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7088188" cy="9374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529F-DE15-45E6-BC7D-6DA330FBD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3383-646F-4563-A244-95D716CE5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F264-4AA5-41E5-AAEE-2AF1581CB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DDFB-E0D0-4C37-AFC4-90C753A72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CF3A1-0934-4A63-8E01-166919795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3EA5A-736F-4310-A2DC-BA5B0D257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9F728-A452-411E-ABB1-A83DCB657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29774-4D66-4777-AFB3-361D91C9B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0069C-482A-443F-BAAF-6230F29B8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AD266-E4A3-4F55-B121-BB81B7BA7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7B51D-E3CC-479A-B8CB-E0C321CD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D885-1EAD-4FBD-8862-322BB66FB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F0932-3E81-4E6D-9345-8D5A03A1E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F7FDB-CBCD-476A-A052-93E20D39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62539-369B-4693-B197-F1F3A7F5E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4D959-30C5-4E21-88B4-2D40734D5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7604C-33FB-4107-B202-3F7FD6497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4814-7948-4105-9C25-83564714B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A494-7F02-43AC-8C98-621D0889B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F733-3A96-42F0-ADED-88095ADC0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9AB0-0767-4D45-8630-B3C75F227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709D-A622-47A8-BF5B-C4EA57E10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EDA1-F530-4602-AD5C-A2C4F035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DCC0-56F9-462E-BD39-771CA8C6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Palatino Linotyp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7A84D-8C9F-48D9-BC5B-CD620F51F4C5}" type="datetime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B1A0A-DCBA-4A3B-B6D4-05B17FDEAC4F}" type="slidenum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3" name="Picture 6" descr="AMC logo plane.jpg"/>
          <p:cNvPicPr/>
          <p:nvPr/>
        </p:nvPicPr>
        <p:blipFill>
          <a:blip r:embed="rId2"/>
          <a:stretch/>
        </p:blipFill>
        <p:spPr>
          <a:xfrm>
            <a:off x="7792920" y="6093000"/>
            <a:ext cx="1059120" cy="6490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Palatino Linotyp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21CFD-AD60-4953-8FF7-8340932ECD8B}" type="datetime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CB824-9642-401C-90F7-B131C2968863}" type="slidenum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AMC logo plane.jpg"/>
          <p:cNvPicPr/>
          <p:nvPr/>
        </p:nvPicPr>
        <p:blipFill>
          <a:blip r:embed="rId2"/>
          <a:stretch/>
        </p:blipFill>
        <p:spPr>
          <a:xfrm>
            <a:off x="7792920" y="6093000"/>
            <a:ext cx="1059120" cy="649080"/>
          </a:xfrm>
          <a:prstGeom prst="rect">
            <a:avLst/>
          </a:prstGeom>
          <a:ln w="0">
            <a:noFill/>
          </a:ln>
        </p:spPr>
      </p:pic>
      <p:sp>
        <p:nvSpPr>
          <p:cNvPr id="84" name="Straight Connector 10"/>
          <p:cNvSpPr/>
          <p:nvPr/>
        </p:nvSpPr>
        <p:spPr>
          <a:xfrm>
            <a:off x="395280" y="6381720"/>
            <a:ext cx="741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5" name="Footer Placeholder 6"/>
          <p:cNvSpPr/>
          <p:nvPr/>
        </p:nvSpPr>
        <p:spPr>
          <a:xfrm>
            <a:off x="395280" y="260280"/>
            <a:ext cx="8440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a7cd39"/>
                </a:solidFill>
                <a:latin typeface="Century Gothic"/>
              </a:rPr>
              <a:t>Air Transport Division. AIA 2012 conference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7"/>
          </p:nvPr>
        </p:nvSpPr>
        <p:spPr>
          <a:xfrm>
            <a:off x="394920" y="6381360"/>
            <a:ext cx="750420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49440" y="2852280"/>
            <a:ext cx="7845120" cy="18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Century Gothic"/>
                <a:ea typeface="Arial"/>
              </a:rPr>
              <a:t>Powers, rights and obligations: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Century Gothic"/>
                <a:ea typeface="Arial"/>
              </a:rPr>
              <a:t>Dealing with the CAA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31800" y="5300640"/>
            <a:ext cx="78804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a7cd39"/>
                </a:solidFill>
                <a:latin typeface="Century Gothic"/>
                <a:ea typeface="Arial"/>
              </a:rPr>
              <a:t>Air Transport Division Presentatio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a7cd39"/>
                </a:solidFill>
                <a:latin typeface="Century Gothic"/>
                <a:ea typeface="Arial"/>
              </a:rPr>
              <a:t>AIA Aviation Week Conference August 2012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7" name="Picture 3" descr="C:\Users\Angela Beazer\Documents\AMC Legal Services Ltd\AMC company info, tax, std terms of engagement\AMC logo tagline.jpg"/>
          <p:cNvPicPr/>
          <p:nvPr/>
        </p:nvPicPr>
        <p:blipFill>
          <a:blip r:embed="rId1"/>
          <a:stretch/>
        </p:blipFill>
        <p:spPr>
          <a:xfrm>
            <a:off x="3089160" y="660240"/>
            <a:ext cx="2965680" cy="16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entury Gothic"/>
              </a:rPr>
              <a:t>General Power of Entry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2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3" name="TextBox 3"/>
          <p:cNvSpPr/>
          <p:nvPr/>
        </p:nvSpPr>
        <p:spPr>
          <a:xfrm>
            <a:off x="611280" y="1488960"/>
            <a:ext cx="7489800" cy="50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Right of access- s24(1)</a:t>
            </a:r>
            <a:br>
              <a:rPr sz="2800"/>
            </a:b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Any person authorised by the Director has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entury Gothic"/>
              </a:rPr>
              <a:t>right of access </a:t>
            </a: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at any reasonable time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entury Gothic"/>
              </a:rPr>
              <a:t>to any </a:t>
            </a: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 u="sng">
                <a:solidFill>
                  <a:srgbClr val="000000"/>
                </a:solidFill>
                <a:uFillTx/>
                <a:latin typeface="Century Gothic"/>
                <a:ea typeface="Arial"/>
              </a:rPr>
              <a:t>Aircraft, aerodrome, building or place </a:t>
            </a: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(not being a dwellinghouse or marae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 u="sng">
                <a:solidFill>
                  <a:srgbClr val="000000"/>
                </a:solidFill>
                <a:uFillTx/>
                <a:latin typeface="Century Gothic"/>
                <a:ea typeface="Arial"/>
              </a:rPr>
              <a:t>Document or record</a:t>
            </a: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 concerning any aircraft, aeronautical product, or aviation related service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Right of entry - s24(2)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Any person duly authorised by the Director has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entury Gothic"/>
                <a:ea typeface="Arial"/>
              </a:rPr>
              <a:t>right of entry </a:t>
            </a: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at any reasonable time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entury Gothic"/>
                <a:ea typeface="Arial"/>
              </a:rPr>
              <a:t>to any aircraft, aerodrome, building or place </a:t>
            </a: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(excluding dwellinghouse or marae)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entury Gothic"/>
                <a:ea typeface="Arial"/>
              </a:rPr>
              <a:t>if there are reasonable grounds to believe</a:t>
            </a: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–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The Act or Rules are about to be breached;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A condition of an aviation document breached;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Unsafe situation constituting danger to safety exist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entury Gothic"/>
              </a:rPr>
              <a:t>What this mean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6" name="TextBox 3"/>
          <p:cNvSpPr/>
          <p:nvPr/>
        </p:nvSpPr>
        <p:spPr>
          <a:xfrm>
            <a:off x="611280" y="1488960"/>
            <a:ext cx="7489800" cy="46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Right of access- s24(1)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If requested by an authorised person you </a:t>
            </a:r>
            <a:r>
              <a:rPr b="1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must provide access to </a:t>
            </a: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-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 u="sng">
                <a:solidFill>
                  <a:srgbClr val="000000"/>
                </a:solidFill>
                <a:uFillTx/>
                <a:latin typeface="Century Gothic"/>
                <a:ea typeface="Arial"/>
              </a:rPr>
              <a:t>any aircraft, aerodrome, building or place </a:t>
            </a: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(excluding dwellinghouse) - requires physical entry; and/or</a:t>
            </a: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 u="sng">
                <a:solidFill>
                  <a:srgbClr val="000000"/>
                </a:solidFill>
                <a:uFillTx/>
                <a:latin typeface="Century Gothic"/>
                <a:ea typeface="Arial"/>
              </a:rPr>
              <a:t>any document or record </a:t>
            </a: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concerning any aircraft, aeronautical product, or aviation related service - may require physical inspection or to provide copie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 u="sng">
                <a:solidFill>
                  <a:srgbClr val="000000"/>
                </a:solidFill>
                <a:uFillTx/>
                <a:latin typeface="Century Gothic"/>
                <a:ea typeface="Arial"/>
              </a:rPr>
              <a:t>At a “reasonable time” </a:t>
            </a: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= depends on the circumstances and nature of the access sought – you have a duty to reasonably assist and not obstruct</a:t>
            </a: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Most commonly used in relation to s15 and s15A power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8" name="TextBox 3"/>
          <p:cNvSpPr/>
          <p:nvPr/>
        </p:nvSpPr>
        <p:spPr>
          <a:xfrm>
            <a:off x="766800" y="620640"/>
            <a:ext cx="7559640" cy="58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Right of entry - s24(2)</a:t>
            </a:r>
            <a:br>
              <a:rPr sz="2800"/>
            </a:b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If requested by a duly authorised person </a:t>
            </a:r>
            <a:r>
              <a:rPr b="1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who informs you that they are exercising their s24(2) powers</a:t>
            </a: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, you </a:t>
            </a:r>
            <a:r>
              <a:rPr b="1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must </a:t>
            </a:r>
            <a:br>
              <a:rPr sz="1800"/>
            </a:b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2002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Allow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entury Gothic"/>
                <a:ea typeface="Arial"/>
              </a:rPr>
              <a:t>entry to any aircraft, aerodrome, building or place </a:t>
            </a: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(warrant required for dwellinghouse)</a:t>
            </a: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2002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 u="sng">
                <a:solidFill>
                  <a:srgbClr val="000000"/>
                </a:solidFill>
                <a:uFillTx/>
                <a:latin typeface="Century Gothic"/>
                <a:ea typeface="Arial"/>
              </a:rPr>
              <a:t>At a reasonable time </a:t>
            </a: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= in light of the purpose of this power, is likely to  be based on assessment of the person exercising power; generally will require entry immediately or as soon as practicable</a:t>
            </a: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S24(3) person exercising rights under s24(1) and (2) may require any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entury Gothic"/>
                <a:ea typeface="Arial"/>
              </a:rPr>
              <a:t>person in possession of documents to produce or surrender them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Authority must be shown on entry or on request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These powers subject to TAIC jurisdiction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entury Gothic"/>
              </a:rPr>
              <a:t>Law Enforcemen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1" name="TextBox 1"/>
          <p:cNvSpPr/>
          <p:nvPr/>
        </p:nvSpPr>
        <p:spPr>
          <a:xfrm>
            <a:off x="1187280" y="1557360"/>
            <a:ext cx="6697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Power to conduct law enforcement investigations derived from general power under s72I to enforce the Act and Rules, including offence provision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If believed evidence about an offence exists, a warrant to search for that evidence at specified location(s) will usually be obtained from the Court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Note Director can also rely on s24(1) and (3) to obtain and access records; and in limited circumstances on s24(2) to gain entry to premises without a warrant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No obligation to attend law enforcement interview or to answer any questions, however </a:t>
            </a: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adverse inferences or conclusions may be drawn about alleged offending; and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3" name="TextBox 3"/>
          <p:cNvSpPr/>
          <p:nvPr/>
        </p:nvSpPr>
        <p:spPr>
          <a:xfrm>
            <a:off x="971640" y="765000"/>
            <a:ext cx="7343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non-cooperation may influence Director’s attitude to prosecution or otherwise dealing with breaches; and</a:t>
            </a: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Acknowledgement of clear cases of breaches = can be taken into account as mitigating factors in sentencing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Decision on whether to attend interview and answer questions is finely balanced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Decision may also be influenced/complicated by whether a concurrent s15A investigation is being undertaken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Advice should be sought </a:t>
            </a: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before</a:t>
            </a: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committing to interview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960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entury Gothic"/>
              </a:rPr>
              <a:t>Safety Investigation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6" name="TextBox 5"/>
          <p:cNvSpPr/>
          <p:nvPr/>
        </p:nvSpPr>
        <p:spPr>
          <a:xfrm>
            <a:off x="1042920" y="1628640"/>
            <a:ext cx="7489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Section 26 obligation of pilot and operator to –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notify accident or incident, or a search and rescue operation, to the Authority as soon as practicable; and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to provide such further information to the Authority as is requested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Part 12 Civil Aviation Rule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12.51 - notification requirements in relation to an accident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12.53 – 10 days to provide further details about accident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12.55 – notification of incidents required by operator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12.57 – notification of further details of incident and timeframe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12.59 – obligation of operators to investigate incidents and report to CAA within 90 days (unless advised not to, or TAIC is investigating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Persons submitting information under 12.55 and 12.57 may request confidentiality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8" name="TextBox 3"/>
          <p:cNvSpPr/>
          <p:nvPr/>
        </p:nvSpPr>
        <p:spPr>
          <a:xfrm>
            <a:off x="971640" y="765000"/>
            <a:ext cx="73436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12.63 Non Prosecution</a:t>
            </a:r>
            <a:br>
              <a:rPr sz="1800"/>
            </a:b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Information submitted under Part 12 to the Authority may not be used for prosecution purposes unles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The information reveals behaviour constituting unnecessary endangerment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False information is submitted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The Authority is obliged by court order or other statutory requirement to release the information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The latter situation could conceivably include a warrant obtained by the police or other agency (eg the police); or the Department of Labour (Health and Safety enforcement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Note – Information supplied to TAIC cannot be used for other purposes by any other agency, including prosecution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0" name="TextBox 3"/>
          <p:cNvSpPr/>
          <p:nvPr/>
        </p:nvSpPr>
        <p:spPr>
          <a:xfrm>
            <a:off x="826920" y="768240"/>
            <a:ext cx="74901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Preservation of Aircraft and Records under part 12</a:t>
            </a:r>
            <a:br>
              <a:rPr sz="1800"/>
            </a:b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12.101 - Duty not to remove, access, interfere with an aircraft or its contents after an accident unless authorised by Authority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This is subject to right to remove persons, livestock or wreckage or take other steps to secure aircraft if necessary to ensure safety, provided certain precautions taken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Authority has right after accident to access, secure, inspect or remove an aircraft or its contents, subject to TAIC jurisdiction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12.103 – Duty to preserve all aircraft records including all recording media on aircraft for at least 14 days following accident or serious incident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112.105 – duty to retain defective product or component for at least 14 days after submitting defect report to CAA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entury Gothic"/>
              </a:rPr>
              <a:t>Offence provision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2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3" name="TextBox 1"/>
          <p:cNvSpPr/>
          <p:nvPr/>
        </p:nvSpPr>
        <p:spPr>
          <a:xfrm>
            <a:off x="684360" y="1557360"/>
            <a:ext cx="7632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s44A Failure to comply with s15 inspection or monitoring request – substantial fines including for continuing non-compliance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s49 – Failure to disclose relevant information or providing false information – fines and up to 12 months imprisonment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S50 - Obstruction of duly authorised person carrying out Director’s functions – fine and up to 3 months imprisonment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s50A – Failure to comply with s24(3) requirement to produce or surrender document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S52 – Failure to maintain accurate records – fine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S52A – Failure to notify emergency breach of rules - fine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s52B – Failure to notify accident or incident under s 26 – fine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entury Gothic"/>
              </a:rPr>
              <a:t>Director’s exit power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5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900000" y="1347840"/>
            <a:ext cx="7344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ss17 – 20 Power to suspend, impose conditions or revoke aviation document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May follow single incident or series of incidents; may follow s15A investigation but not necessarily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Exercise of exit powers (other than suspension or temporary conditions) subject to s11 Proposed Adverse Decision proces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If exited from system, no bar to re-entry or minimum time frame, however re-entry subject to Director’s assessment of suitability (time since events leading to exit, subsequent behaviour, FPP assessment etc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Key obligations to bear in mind – s12 obligations and s10 FPP requirements</a:t>
            </a: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58560" y="639360"/>
            <a:ext cx="5948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0" name="TextBox 1"/>
          <p:cNvSpPr/>
          <p:nvPr/>
        </p:nvSpPr>
        <p:spPr>
          <a:xfrm>
            <a:off x="900000" y="1413000"/>
            <a:ext cx="7417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entury Gothic"/>
              </a:rPr>
              <a:t>Role of the Minister and CAA 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entury Gothic"/>
              </a:rPr>
              <a:t>Director’s power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Inspection and monitoring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s15A investigation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S24 General power of access and entry 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Law Enforcement investigation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Safety Investigation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entury Gothic"/>
              </a:rPr>
              <a:t>Offence provision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entury Gothic"/>
              </a:rPr>
              <a:t>Exit powers and adverse decision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entury Gothic"/>
              </a:rPr>
              <a:t>Avenues of redres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76280" y="6811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entury Gothic"/>
              </a:rPr>
              <a:t>Proposed adverse decision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8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9" name="TextBox 1"/>
          <p:cNvSpPr/>
          <p:nvPr/>
        </p:nvSpPr>
        <p:spPr>
          <a:xfrm>
            <a:off x="811080" y="1628640"/>
            <a:ext cx="7559640" cy="43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The Director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entury Gothic"/>
              </a:rPr>
              <a:t>must</a:t>
            </a: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Disclose any adverse information taken into account and allow the person to refute or comment on it; and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Notify any proposed adverse decision, and consider any submissions, in accordance with s11; and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Notify the final decision and, if it is adverse, explain the consequence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S66 – Right of appeal against adverse decisions affecting validity and exercise of privileges of aviation document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Note - currently no direct right of appeal by senior person against adverse FPP determination/decision not to approve senior person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entury Gothic"/>
              </a:rPr>
              <a:t>Avenues of Redres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2" name="TextBox 1"/>
          <p:cNvSpPr/>
          <p:nvPr/>
        </p:nvSpPr>
        <p:spPr>
          <a:xfrm>
            <a:off x="1187280" y="1628640"/>
            <a:ext cx="640908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Official Information Act/Privacy Act request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Complain/elevate matters within CAA – senior management; Director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Consider approach to Board/Minister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Service Charter Complaint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Ombudsmen investigation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Recourse to the Courts – statutory appeal rights, judicial review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entury Gothic"/>
              </a:rPr>
              <a:t>See </a:t>
            </a:r>
            <a:r>
              <a:rPr b="1" lang="en-NZ" sz="1200" spc="-1" strike="noStrike">
                <a:solidFill>
                  <a:srgbClr val="000000"/>
                </a:solidFill>
                <a:latin typeface="Century Gothic"/>
              </a:rPr>
              <a:t>NZ Aviation News </a:t>
            </a:r>
            <a:r>
              <a:rPr b="1" i="1" lang="en-NZ" sz="1200" spc="-1" strike="noStrike">
                <a:solidFill>
                  <a:srgbClr val="000000"/>
                </a:solidFill>
                <a:latin typeface="Century Gothic"/>
              </a:rPr>
              <a:t>The</a:t>
            </a:r>
            <a:r>
              <a:rPr b="1" lang="en-NZ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i="1" lang="en-NZ" sz="1200" spc="-1" strike="noStrike">
                <a:solidFill>
                  <a:srgbClr val="000000"/>
                </a:solidFill>
                <a:latin typeface="Century Gothic"/>
              </a:rPr>
              <a:t>Legal Lounge </a:t>
            </a:r>
            <a:r>
              <a:rPr b="1" lang="en-NZ" sz="1200" spc="-1" strike="noStrike">
                <a:solidFill>
                  <a:srgbClr val="000000"/>
                </a:solidFill>
                <a:latin typeface="Century Gothic"/>
              </a:rPr>
              <a:t>articles</a:t>
            </a:r>
            <a:r>
              <a:rPr b="0" lang="en-NZ" sz="1200" spc="-1" strike="noStrike">
                <a:solidFill>
                  <a:srgbClr val="000000"/>
                </a:solidFill>
                <a:latin typeface="Century Gothic"/>
              </a:rPr>
              <a:t>, December 2011 for more discussion on the different focus and obligations during administrative, safety and law enforcement investigations; and October 2011 for more information on avenues of redress; earlier articles also discuss FPP and prosecution issues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Role of the Minister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1116000" y="1484280"/>
            <a:ext cx="6840720" cy="46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Minister of Transport 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S14 Objective: carry out functions in a way that contributes to aim of achieving an integrated, safe, responsive and sustainable transport system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s14A Functions: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To promote safety in civil aviation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Administer NZ’s participation in ICAO and other international agreements on civil aviation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Administer any Crown interests in aerodrome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To make the Civil Aviation Rule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Bears ultimate responsibility for establishment of search and rescue centre for maritime and aviation search and rescue operation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Role of the CAA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5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6" name="TextBox 1"/>
          <p:cNvSpPr/>
          <p:nvPr/>
        </p:nvSpPr>
        <p:spPr>
          <a:xfrm>
            <a:off x="1116000" y="1395360"/>
            <a:ext cx="7128000" cy="47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CAA: Crown Entity, Minister appointed board (“the Authority”)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s72AA Objective: to undertake its safety and security functions in a way that… achieves an integrated, safe, responsive and sustainable transport system</a:t>
            </a: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s72B Functions: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Promotion of civil aviation safety and security in NZ and internationally; including education function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Maintain records, ensure publication of aeronautical chart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To investigate civil aviation accidents and incidents (subject to TAIC jurisdiction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1560" y="6857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9" name="TextBox 4"/>
          <p:cNvSpPr/>
          <p:nvPr/>
        </p:nvSpPr>
        <p:spPr>
          <a:xfrm>
            <a:off x="1042920" y="765000"/>
            <a:ext cx="7345440" cy="58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Establish and carry out Aviation Security Service function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Establish and publish CAA Service Charter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Provide information and advice to the Minister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Enter into technical or operational agreements with other ICAO states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Appoint the Director of Civil Aviation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The Authority must, if directed by the Minister (s72B):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Operate and maintain the search and rescue centre, or participate in a search and rescue operation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Implement a government policy if directed to under the Crown Entities Act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Director’s power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1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1116000" y="1378080"/>
            <a:ext cx="684072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Overview of powers (s 72I)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Power to exercise control over entry into the system through granting of aviation documents (ss6 – 9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Power to carry out inspections and monitoring of participants in the system(s15)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Power to conduct investigations of aviation document holders to ensure compliance with the Civil Aviation Act or Rules (s15A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Power to take action to enforce the Civil Aviation Act or Rules, which may be through: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Law enforcement action for breach of the Act or Rules; and/or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4" name="TextBox 3"/>
          <p:cNvSpPr/>
          <p:nvPr/>
        </p:nvSpPr>
        <p:spPr>
          <a:xfrm>
            <a:off x="971640" y="765000"/>
            <a:ext cx="7343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Administrative action against aviation document holders (ss17-20) (exit control powers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Power to detain or seize aircraft or aeronautical products if it may endanger persons or property (s21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Power to issue airworthiness directives in respect of an unsafe condition in an aircraft or aeronautical product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Director may delegate his powers to employees except for s18 power to revoke aviation documents; with the Minister’s consent external contractors may also be delegated most power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Note – </a:t>
            </a: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In exercising the Director’s statutory powers the Director must act independently of the Minister and Authority = Minister and Authority cannot  intervene in specific decisions (eg in a decision to revoke or suspend an aviation document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entury Gothic"/>
              </a:rPr>
              <a:t>Inspection and monitoring 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6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7" name="TextBox 3"/>
          <p:cNvSpPr/>
          <p:nvPr/>
        </p:nvSpPr>
        <p:spPr>
          <a:xfrm>
            <a:off x="768240" y="1557360"/>
            <a:ext cx="72597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S15(1) - Power to require participants to undergo such inspection and monitoring as considered “necessary in the interests of aviation safety”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S15(3) – Director may request such information as is considered necessary as part of inspection and monitoring</a:t>
            </a: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CAA practice -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Routine annual audit of certified organisation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Routine annual inspections of other organisation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Targeted or random inspections</a:t>
            </a: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Focus on exposition (certified operators) or compliance with rules and ops manual (uncertified operators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Question – Risk Surveillance approach – move to targeted auditing of operators based on risk – is this happening?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entury Gothic"/>
              </a:rPr>
              <a:t>Investigation power (s15A)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0" name="TextBox 3"/>
          <p:cNvSpPr/>
          <p:nvPr/>
        </p:nvSpPr>
        <p:spPr>
          <a:xfrm>
            <a:off x="768240" y="1557360"/>
            <a:ext cx="7056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Power to require holder of aviation document to undergo investigation if the Director –</a:t>
            </a: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Has reasonable grounds to believe holder of aviation document failing to comply with section 12 or conditions on aviation document; or</a:t>
            </a: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Considers the privileges or duties pertaining to the document are being carried out carelessly or incompetently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Nature of s15A investigation – administrative - linked to entry and exit control power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Focus on s12 (requirements on participants to comply with CA Act and Rules) and s10 (FPP requirements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4T23:40:59Z</dcterms:created>
  <dc:creator>Angela Joanne Beazer</dc:creator>
  <dc:description/>
  <dc:language>en-US</dc:language>
  <cp:lastModifiedBy>Angela Joanne Beazer</cp:lastModifiedBy>
  <cp:lastPrinted>2012-08-09T02:38:27Z</cp:lastPrinted>
  <dcterms:modified xsi:type="dcterms:W3CDTF">2012-08-11T06:07:15Z</dcterms:modified>
  <cp:revision>131</cp:revision>
  <dc:subject/>
  <dc:title>The FPP Test: What you need to know</dc:title>
</cp:coreProperties>
</file>