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29C-7BA3-4CDB-AD0C-7501BE72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01E-7D16-4E0C-9AEB-64AD0992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3F2-8BA7-48F6-AF66-81ADE57D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6AB-E66E-4169-8D9F-830877CE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B117-72F0-42AA-8E2B-23498177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E375-D5B9-4F24-B6A5-93F9E85E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6067-11D5-4AA9-8074-4172C6BB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74F7-0E98-4D3E-B6E3-55CA8B23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77FA-3431-4612-A019-59D717B7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DDC1-62A7-4FAD-A5ED-F4FE02D0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5A5B-1DA9-453F-B44B-13CE9DC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F43-6C63-4B91-B619-6DBC72FB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8379-B4D5-4C1A-9E0A-9D6C8973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BC5C-CDDF-4BCB-84FC-403BF727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3270-6D67-416D-8A7D-F0216215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BBEF-2D76-48B5-801E-F591F8E0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042C-0C74-461C-AC92-29DAB8AC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41F-CF6A-42FD-96EA-1E2FA32F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90C-B195-430D-81C9-B93E8E4E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1AC-F34E-45D5-B7F6-732680AD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105-99A9-4C30-A9DD-5836A2AE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C2D-AC93-48F5-9981-724CC278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5CD-ADE7-4F62-BFE8-86FBFE2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E68-1B8C-4C07-8ABF-44D31499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7DF-9613-4B96-9CF3-D363B478A5D2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138F-3385-427F-8D1B-BDE1839440DE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D601-05B4-4564-848B-736CD0B96044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686D-5979-45CC-9781-71D34E8DA0CF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Air Transport Division. AIA 2012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9440" y="2852280"/>
            <a:ext cx="784512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owers, rights and obligations: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Dealing with the CAA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r Transport Division Presenta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August 2012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General Power of Ent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1280" y="1488960"/>
            <a:ext cx="74898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access- s24(1)</a:t>
            </a:r>
            <a:br>
              <a:rPr sz="2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ny person authorised by the Director ha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right of access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t any reasonable time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to any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not being a dwellinghouse or marae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Document or record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concerning any aircraft, aeronautical product, or aviation related servi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entry - s24(2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ny person duly authorised by the Director ha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right of entry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t any reasonable time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to 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excluding dwellinghouse or marae)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if there are reasonable grounds to believe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Act or Rules are about to be breached;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 condition of an aviation document breached;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Unsafe situation constituting danger to safety exis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What this mea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611280" y="1488960"/>
            <a:ext cx="74898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access- s24(1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f requested by an authorised person you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provide access to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excluding dwellinghouse) - requires physical entry; and/or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 document or record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cerning any aircraft, aeronautical product, or aviation related service - may require physical inspection or to provide copi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t a “reasonable time”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= depends on the circumstances and nature of the access sought – you have a duty to reasonably assist and not obstruc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ost commonly used in relation to s15 and s15A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66800" y="620640"/>
            <a:ext cx="755964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entry - s24(2)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f requested by a duly authorised person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ho informs you that they are exercising their s24(2) powers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, you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llow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entry to 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warrant required for dwellinghouse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t a reasonable tim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= in light of the purpose of this power, is likely to  be based on assessment of the person exercising power; generally will require entry immediately or as soon as practicable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24(3) person exercising rights under s24(1) and (2) may require any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person in possession of documents to produce or surrender them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uthority must be shown on entry or on reques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se powers subject to TAIC jurisdi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Law Enforcemen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187280" y="1557360"/>
            <a:ext cx="669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onduct law enforcement investigations derived from general power under s72I to enforce the Act and Rules, including offence provis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f believed evidence about an offence exists, a warrant to search for that evidence at specified location(s) will usually be obtained from the Cour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Director can also rely on s24(1) and (3) to obtain and access records; and in limited circumstances on s24(2) to gain entry to premises without a warra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 obligation to attend law enforcement interview or to answer any questions, however 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inferences or conclusions may be drawn about alleged offending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71640" y="765000"/>
            <a:ext cx="734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n-cooperation may influence Director’s attitude to prosecution or otherwise dealing with breaches; and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cknowledgement of clear cases of breaches = can be taken into account as mitigating factors in sentenc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ecision on whether to attend interview and answer questions is finely balanc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ecision may also be influenced/complicated by whether a concurrent s15A investigation is being undertake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dvice should be sought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before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committing to interview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96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Safety Investigati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1042920" y="1628640"/>
            <a:ext cx="748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26 obligation of pilot and operator to –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ify accident or incident, or a search and rescue operation, to the Authority as soon as practicable; and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o provide such further information to the Authority as is request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art 12 Civil Aviation Rul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1 - notification requirements in relation to an ac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3 – 10 days to provide further details about ac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5 – notification of incidents required by operato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7 – notification of further details of incident and timefram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9 – obligation of operators to investigate incidents and report to CAA within 90 days (unless advised not to, or TAIC is investigating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ersons submitting information under 12.55 and 12.57 may request confidentiali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971640" y="765000"/>
            <a:ext cx="73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12.63 Non Prosecution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formation submitted under Part 12 to the Authority may not be used for prosecution purposes unles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formation reveals behaviour constituting unnecessary endanger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alse information is submitt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Authority is obliged by court order or other statutory requirement to release the information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latter situation could conceivably include a warrant obtained by the police or other agency (eg the police); or the Department of Labour (Health and Safety enforcemen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– Information supplied to TAIC cannot be used for other purposes by any other agency, including prosecu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826920" y="768240"/>
            <a:ext cx="7490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Preservation of Aircraft and Records under part 12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101 - Duty not to remove, access, interfere with an aircraft or its contents after an accident unless authorised by Authori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is is subject to right to remove persons, livestock or wreckage or take other steps to secure aircraft if necessary to ensure safety, provided certain precautions take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uthority has right after accident to access, secure, inspect or remove an aircraft or its contents, subject to TAIC jurisdi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103 – Duty to preserve all aircraft records including all recording media on aircraft for at least 14 days following accident or serious in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12.105 – duty to retain defective product or component for at least 14 days after submitting defect report to CAA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Offence prov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684360" y="155736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44A Failure to comply with s15 inspection or monitoring request – substantial fines including for continuing non-complian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49 – Failure to disclose relevant information or providing false information – fines and up to 12 months imprison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0 - Obstruction of duly authorised person carrying out Director’s functions – fine and up to 3 months imprison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0A – Failure to comply with s24(3) requirement to produce or surrender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 – Failure to maintain accurate records – fin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A – Failure to notify emergency breach of rules - fin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B – Failure to notify accident or incident under s 26 – fin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Director’s exit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900000" y="1347840"/>
            <a:ext cx="73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s17 – 20 Power to suspend, impose conditions or revoke aviation docu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May follow single incident or series of incidents; may follow s15A investigation but not necessari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Exercise of exit powers (other than suspension or temporary conditions) subject to s11 Proposed Adverse Decision proces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f exited from system, no bar to re-entry or minimum time frame, however re-entry subject to Director’s assessment of suitability (time since events leading to exit, subsequent behaviour, FPP assessment et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Key obligations to bear in mind – s12 obligations and s10 FPP requirement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639360"/>
            <a:ext cx="5948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900000" y="1413000"/>
            <a:ext cx="74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Role of the Minister and CAA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Director’s powe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Inspection and monitor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15A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24 General power of access and entry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aw Enforcement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afety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Offence provis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Exit powers and adverse decis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Avenues of redres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6280" y="681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posed adverse dec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811080" y="1628640"/>
            <a:ext cx="755964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 and allow the person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any proposed adverse decision, and consider any submissions, in accordance with s11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the final decision and, if it is adverse, explain the consequ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66 – Right of appeal against adverse decisions affecting validity and exercise of privileges of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- currently no direct right of appeal by senior person against adverse FPP determination/decision not to approve senior pers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Avenues of Redres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1187280" y="1628640"/>
            <a:ext cx="6409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fficial Information Act/Privacy Act reques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ain/elevate matters within CAA – senior management; Dir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nsider approach to Board/Minist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rvice Charter Complai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mbudsmen investig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Recourse to the Courts – statutory appeal rights, judicial review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See 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NZ Aviation News </a:t>
            </a:r>
            <a:r>
              <a:rPr b="1" i="1" lang="en-NZ" sz="1200" spc="-1" strike="noStrike">
                <a:solidFill>
                  <a:srgbClr val="000000"/>
                </a:solidFill>
                <a:latin typeface="Century Gothic"/>
              </a:rPr>
              <a:t>The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NZ" sz="1200" spc="-1" strike="noStrike">
                <a:solidFill>
                  <a:srgbClr val="000000"/>
                </a:solidFill>
                <a:latin typeface="Century Gothic"/>
              </a:rPr>
              <a:t>Legal Lounge 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articles</a:t>
            </a:r>
            <a:r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, December 2011 for more discussion on the different focus and obligations during administrative, safety and law enforcement investigations; and October 2011 for more information on avenues of redress; earlier articles also discuss FPP and prosecution issues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ole of the Ministe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116000" y="1484280"/>
            <a:ext cx="68407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Minister of Transport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4 Objective: carry out functions in a way that contributes to aim of achieving an integrated, safe, responsive and sustainable transport system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4A Function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mote safety in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er NZ’s participation in ICAO and other international agreements on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er any Crown interests in aerodrom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make the Civil Aviation Rul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Bears ultimate responsibility for establishment of search and rescue centre for maritime and aviation search and rescue oper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ole of the CA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116000" y="1395360"/>
            <a:ext cx="712800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AA: Crown Entity, Minister appointed board (“the Authority”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72AA Objective: to undertake its safety and security functions in a way that… achieves an integrated, safe, responsive and sustainable transport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72B Functions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romotion of civil aviation safety and security in NZ and internationally; including education fun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intain records, ensure publication of aeronautical cha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investigate civil aviation accidents and incidents (subject to TAIC jurisdiction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156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042920" y="765000"/>
            <a:ext cx="734544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stablish and carry out Aviation Security Service fun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stablish and publish CAA Service Chart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rovide information and advice to the Minister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nter into technical or operational agreements with other ICAO state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ppoint the Director of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Authority must, if directed by the Minister (s72B)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perate and maintain the search and rescue centre, or participate in a search and rescue oper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mplement a government policy if directed to under the Crown Entities Ac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rector’s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378080"/>
            <a:ext cx="68407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verview of powers (s 72I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exercise control over entry into the system through granting of aviation documents (ss6 – 9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arry out inspections and monitoring of participants in the system(s15)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onduct investigations of aviation document holders to ensure compliance with the Civil Aviation Act or Rules (s15A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take action to enforce the Civil Aviation Act or Rules, which may be through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w enforcement action for breach of the Act or Rules; and/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971640" y="765000"/>
            <a:ext cx="73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rative action against aviation document holders (ss17-20) (exit control power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detain or seize aircraft or aeronautical products if it may endanger persons or property (s21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issue airworthiness directives in respect of an unsafe condition in an aircraft or aeronautical produc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ay delegate his powers to employees except for s18 power to revoke aviation documents; with the Minister’s consent external contractors may also be delegated most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Note –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 exercising the Director’s statutory powers the Director must act independently of the Minister and Authority = Minister and Authority cannot  intervene in specific decisions (eg in a decision to revoke or suspend an aviation documen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Inspection and monitoring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768240" y="1557360"/>
            <a:ext cx="7259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5(1) - Power to require participants to undergo such inspection and monitoring as considered “necessary in the interests of aviation safety”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5(3) – Director may request such information as is considered necessary as part of inspection and monitoring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ractice -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outine annual audit of certified organis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outine annual inspections of other organis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argeted or random inspection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on exposition (certified operators) or compliance with rules and ops manual (uncertified operator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Question – Risk Surveillance approach – move to targeted auditing of operators based on risk – is this happening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Investigation power (s15A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768240" y="1557360"/>
            <a:ext cx="70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require holder of aviation document to undergo investigation if the Director –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s reasonable grounds to believe holder of aviation document failing to comply with section 12 or conditions on aviation document; or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siders the privileges or duties pertaining to the document are being carried out carelessly or incompetent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ature of s15A investigation – administrative - linked to entry and exit control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on s12 (requirements on participants to comply with CA Act and Rules) and s10 (FPP requirement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cp:lastPrinted>2012-08-09T02:38:27Z</cp:lastPrinted>
  <dcterms:modified xsi:type="dcterms:W3CDTF">2012-08-11T06:07:15Z</dcterms:modified>
  <cp:revision>131</cp:revision>
  <dc:subject/>
  <dc:title>The FPP Test: What you need to know</dc:title>
</cp:coreProperties>
</file>