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2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7" name="PlaceHolder 2"/>
          <p:cNvSpPr>
            <a:spLocks noGrp="1"/>
          </p:cNvSpPr>
          <p:nvPr>
            <p:ph type="dt" idx="8"/>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12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9"/>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1" name="PlaceHolder 6"/>
          <p:cNvSpPr>
            <a:spLocks noGrp="1"/>
          </p:cNvSpPr>
          <p:nvPr>
            <p:ph type="sldNum" idx="10"/>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2DF1-91A2-45DD-8389-F63BF5FB465D}"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32040" y="741240"/>
            <a:ext cx="4933800" cy="3702240"/>
          </a:xfrm>
          <a:prstGeom prst="rect">
            <a:avLst/>
          </a:prstGeom>
          <a:ln w="0">
            <a:noFill/>
          </a:ln>
        </p:spPr>
      </p:sp>
      <p:sp>
        <p:nvSpPr>
          <p:cNvPr id="1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A1F7-5160-4ECF-BD67-F77F98959120}" type="slidenum">
              <a:rPr b="0" lang="en-US" sz="1200" spc="-1" strike="noStrike">
                <a:solidFill>
                  <a:srgbClr val="000000"/>
                </a:solidFill>
                <a:latin typeface="Palatino Linotype"/>
                <a:ea typeface="Arial"/>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F9A3A-F414-44BE-99A7-02A3B8F90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E9C96-43DB-4A2B-BC58-4C4328699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FC94B-706C-4271-B0A6-79306EBCE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49F0D-A6B6-4295-A4CF-80E67563B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75CC0019-D9FD-41CE-B668-1C741ABFA4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CFD81921-97DA-42AB-819B-10499581FAD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468C149-170A-4681-8701-A5E705297E4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AB13D97-FDBD-49AB-A1C4-B256BB24E6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8972A1C-9568-4D0A-925A-E90F73204C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97EF30A8-FDA7-4100-A5E8-F8391F3A53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24840E5-5A27-4C72-9FA5-3EB3517D95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227E3-C584-483C-9DCE-B340EBDB0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34E24C4-93E7-4FDE-970C-F4FC245ABC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302825B-E04B-483A-A080-47C06CF9852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5513200-EFCB-4FBD-B176-CCF538E7765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EE57466-56B6-448E-8211-9959CF06F44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EB009350-E8AE-4D37-B078-D51A3CDEF9D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43E94-947B-44BD-87B5-AFCB24133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4181B-9D45-4C44-8420-8A0D797D2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F971A-35B2-4676-A44C-41C8BEBE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DC153-9F96-4E21-A55E-393AF5E8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A05E5-2947-4F72-8D15-7C2C0014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CA46B-C38F-49B5-BA94-571BF814D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D4A27-27B0-44F5-A494-7CA20F25E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A368-1FA9-43D9-B549-C046434D61CF}" type="datetime">
              <a:rPr b="0" lang="en-US" sz="1200" spc="-1" strike="noStrike">
                <a:solidFill>
                  <a:srgbClr val="898989"/>
                </a:solidFill>
                <a:latin typeface="Palatino Linotype"/>
              </a:rPr>
              <a:t>07/28/26</a:t>
            </a:fld>
            <a:endParaRPr b="0" lang="en-US" sz="1200" spc="-1" strike="noStrike">
              <a:solidFill>
                <a:srgbClr val="000000"/>
              </a:solidFill>
              <a:latin typeface="Palatino Linotyp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93D3-F839-4CEE-9042-099615EEE5BC}"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pic>
        <p:nvPicPr>
          <p:cNvPr id="43" name="Picture 6" descr="AMC logo plane.jpg"/>
          <p:cNvPicPr/>
          <p:nvPr/>
        </p:nvPicPr>
        <p:blipFill>
          <a:blip r:embed="rId2"/>
          <a:stretch/>
        </p:blipFill>
        <p:spPr>
          <a:xfrm>
            <a:off x="7792920" y="6093000"/>
            <a:ext cx="1059120" cy="649080"/>
          </a:xfrm>
          <a:prstGeom prst="rect">
            <a:avLst/>
          </a:prstGeom>
          <a:ln w="0">
            <a:noFill/>
          </a:ln>
        </p:spPr>
      </p:pic>
      <p:sp>
        <p:nvSpPr>
          <p:cNvPr id="44"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5"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A173-CAA8-4C00-8CE2-06ACBB49D52E}" type="datetime">
              <a:rPr b="0" lang="en-US" sz="1200" spc="-1" strike="noStrike">
                <a:solidFill>
                  <a:srgbClr val="898989"/>
                </a:solidFill>
                <a:latin typeface="Palatino Linotype"/>
              </a:rPr>
              <a:t>07/28/26</a:t>
            </a:fld>
            <a:endParaRPr b="0" lang="en-US" sz="1200" spc="-1" strike="noStrike">
              <a:solidFill>
                <a:srgbClr val="000000"/>
              </a:solidFill>
              <a:latin typeface="Palatino Linotype"/>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FAFB-7CBC-439F-B823-A0BE697CDE18}" type="slidenum">
              <a:rPr b="0" lang="en-US" sz="1200" spc="-1" strike="noStrike">
                <a:solidFill>
                  <a:srgbClr val="898989"/>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AMC logo plane.jpg"/>
          <p:cNvPicPr/>
          <p:nvPr/>
        </p:nvPicPr>
        <p:blipFill>
          <a:blip r:embed="rId2"/>
          <a:stretch/>
        </p:blipFill>
        <p:spPr>
          <a:xfrm>
            <a:off x="7792920" y="6093000"/>
            <a:ext cx="1059120" cy="649080"/>
          </a:xfrm>
          <a:prstGeom prst="rect">
            <a:avLst/>
          </a:prstGeom>
          <a:ln w="0">
            <a:noFill/>
          </a:ln>
        </p:spPr>
      </p:pic>
      <p:sp>
        <p:nvSpPr>
          <p:cNvPr id="84" name="Straight Connector 10"/>
          <p:cNvSpPr/>
          <p:nvPr/>
        </p:nvSpPr>
        <p:spPr>
          <a:xfrm>
            <a:off x="395280" y="63817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5" name="Footer Placeholder 6"/>
          <p:cNvSpPr/>
          <p:nvPr/>
        </p:nvSpPr>
        <p:spPr>
          <a:xfrm>
            <a:off x="395280" y="260280"/>
            <a:ext cx="844092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a7cd39"/>
                </a:solidFill>
                <a:latin typeface="Century Gothic"/>
              </a:rPr>
              <a:t>NZAAA Leadership Summit Wellington 2014</a:t>
            </a:r>
            <a:endParaRPr b="0" lang="en-US" sz="1400" spc="-1" strike="noStrike">
              <a:solidFill>
                <a:srgbClr val="000000"/>
              </a:solidFill>
              <a:latin typeface="Palatino Linotyp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8" name="PlaceHolder 3"/>
          <p:cNvSpPr>
            <a:spLocks noGrp="1"/>
          </p:cNvSpPr>
          <p:nvPr>
            <p:ph type="ftr" idx="7"/>
          </p:nvPr>
        </p:nvSpPr>
        <p:spPr>
          <a:xfrm>
            <a:off x="394920" y="6381360"/>
            <a:ext cx="7504200" cy="291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37000"/>
            <a:ext cx="7772400" cy="2017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Century Gothic"/>
                <a:ea typeface="Arial"/>
              </a:rPr>
              <a:t>Health and Safety Responsibilities for </a:t>
            </a:r>
            <a:br>
              <a:rPr sz="4000"/>
            </a:br>
            <a:r>
              <a:rPr b="1" lang="en-NZ" sz="4000" spc="-1" strike="noStrike">
                <a:solidFill>
                  <a:srgbClr val="000000"/>
                </a:solidFill>
                <a:latin typeface="Century Gothic"/>
                <a:ea typeface="Arial"/>
              </a:rPr>
              <a:t>Agricultural Pilots</a:t>
            </a:r>
            <a:br>
              <a:rPr sz="4000"/>
            </a:br>
            <a:endParaRPr b="0" lang="en-US" sz="4000" spc="-1" strike="noStrike">
              <a:solidFill>
                <a:srgbClr val="000000"/>
              </a:solidFill>
              <a:latin typeface="Century Gothic"/>
            </a:endParaRPr>
          </a:p>
        </p:txBody>
      </p:sp>
      <p:sp>
        <p:nvSpPr>
          <p:cNvPr id="133" name="PlaceHolder 2"/>
          <p:cNvSpPr>
            <a:spLocks noGrp="1"/>
          </p:cNvSpPr>
          <p:nvPr>
            <p:ph type="subTitle"/>
          </p:nvPr>
        </p:nvSpPr>
        <p:spPr>
          <a:xfrm>
            <a:off x="631800" y="5300640"/>
            <a:ext cx="7880400" cy="720720"/>
          </a:xfrm>
          <a:prstGeom prst="rect">
            <a:avLst/>
          </a:prstGeom>
          <a:noFill/>
          <a:ln w="0">
            <a:noFill/>
          </a:ln>
        </p:spPr>
        <p:txBody>
          <a:bodyPr anchor="t">
            <a:noAutofit/>
          </a:bodyPr>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a:t>
            </a:r>
            <a:r>
              <a:rPr b="1" lang="en-NZ" sz="2200" spc="-1" strike="noStrike">
                <a:solidFill>
                  <a:srgbClr val="a7cd39"/>
                </a:solidFill>
                <a:latin typeface="Century Gothic"/>
                <a:ea typeface="Arial"/>
              </a:rPr>
              <a:t>Pilots in focus”</a:t>
            </a:r>
            <a:endParaRPr b="0" lang="en-US" sz="2200" spc="-1" strike="noStrike">
              <a:solidFill>
                <a:srgbClr val="000000"/>
              </a:solidFill>
              <a:latin typeface="Century Gothic"/>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a7cd39"/>
                </a:solidFill>
                <a:latin typeface="Century Gothic"/>
                <a:ea typeface="Arial"/>
              </a:rPr>
              <a:t>NZAAA Leadership Summit.  Wellington 2014</a:t>
            </a:r>
            <a:endParaRPr b="0" lang="en-US" sz="2200" spc="-1" strike="noStrike">
              <a:solidFill>
                <a:srgbClr val="000000"/>
              </a:solidFill>
              <a:latin typeface="Century Gothic"/>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pic>
        <p:nvPicPr>
          <p:cNvPr id="134" name="Picture 3" descr="C:\Users\Angela Beazer\Documents\AMC Legal Services Ltd\AMC company info, tax, std terms of engagement\AMC logo tagline.jpg"/>
          <p:cNvPicPr/>
          <p:nvPr/>
        </p:nvPicPr>
        <p:blipFill>
          <a:blip r:embed="rId1"/>
          <a:stretch/>
        </p:blipFill>
        <p:spPr>
          <a:xfrm>
            <a:off x="3089160" y="660240"/>
            <a:ext cx="2965680" cy="16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Health and Safety Reform Bill</a:t>
            </a:r>
            <a:endParaRPr b="0" lang="en-US" sz="4400" spc="-1" strike="noStrike">
              <a:solidFill>
                <a:srgbClr val="000000"/>
              </a:solidFill>
              <a:latin typeface="Century Gothic"/>
            </a:endParaRPr>
          </a:p>
        </p:txBody>
      </p:sp>
      <p:sp>
        <p:nvSpPr>
          <p:cNvPr id="155"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6" name="Rectangle 3"/>
          <p:cNvSpPr/>
          <p:nvPr/>
        </p:nvSpPr>
        <p:spPr>
          <a:xfrm>
            <a:off x="865080" y="1484280"/>
            <a:ext cx="7128000" cy="5022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ommendations of Pike River Royal Commission, and work of Government Task Force on health and safety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ill introduced in March 2014, new Health and Safety at Work Act expected to be enacted in 2015</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ew Act replaces concepts of employer and principal with a “person conducting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ens scope of duties and responsibilities across all participants involved in, or working for, a business or undertaking</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600" spc="-1" strike="noStrike">
                <a:solidFill>
                  <a:srgbClr val="000000"/>
                </a:solidFill>
                <a:latin typeface="Palatino Linotype"/>
                <a:ea typeface="Arial"/>
              </a:rPr>
              <a:t>“</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est replaced with </a:t>
            </a:r>
            <a:r>
              <a:rPr b="1" i="1" lang="en-NZ" sz="1600" spc="-1" strike="noStrike">
                <a:solidFill>
                  <a:srgbClr val="000000"/>
                </a:solidFill>
                <a:latin typeface="Palatino Linotype"/>
                <a:ea typeface="Arial"/>
              </a:rPr>
              <a:t>“reasonably practicable” </a:t>
            </a:r>
            <a:r>
              <a:rPr b="0" lang="en-NZ" sz="1600" spc="-1" strike="noStrike">
                <a:solidFill>
                  <a:srgbClr val="000000"/>
                </a:solidFill>
                <a:latin typeface="Palatino Linotype"/>
                <a:ea typeface="Arial"/>
              </a:rPr>
              <a:t>tes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largely codifies or clarifies existing “all practicable steps” legal test but -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Australian Courts say it is narrower than “physically possible” or even “feasibl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how it will be applied by NZ Cour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8" name="Rectangle 1"/>
          <p:cNvSpPr/>
          <p:nvPr/>
        </p:nvSpPr>
        <p:spPr>
          <a:xfrm>
            <a:off x="1116000" y="765000"/>
            <a:ext cx="6912000" cy="578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n workers, while at work, to</a:t>
            </a:r>
            <a:r>
              <a:rPr b="0" lang="en-NZ" sz="1800" spc="-1" strike="noStrike">
                <a:solidFill>
                  <a:srgbClr val="000000"/>
                </a:solidFill>
                <a:latin typeface="Palatino Linotype"/>
              </a:rPr>
              <a:t>:</a:t>
            </a:r>
            <a:br>
              <a:rPr sz="1800"/>
            </a:b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for own health and safety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ake reasonable care not to adversely affect health and safety of othe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mply with reasonable instructions, and notified policies or procedures of the PCBU to allow the PCBU to meet its health and safety obligation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er engagement and participation</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Workers expected to be more involved in health and safety management and development of policies and procedur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Heightened obligations on PCBU to share information and involve workers in decisions, in particular when hazards are identified or when making decisions about how to eliminate or minimise risk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ay elect, or employees may request election, of a health and safety representative; </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0" name="Rectangle 1"/>
          <p:cNvSpPr/>
          <p:nvPr/>
        </p:nvSpPr>
        <p:spPr>
          <a:xfrm>
            <a:off x="1116000" y="765000"/>
            <a:ext cx="6912000" cy="6378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has obligations to provide resources and paid time off for health and safety representatives to attend approved training program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Larger PCBU’s may be obliged to set up health and safety committee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PCBU must take seriously recommendations of health and safety representatives, committees, or specially constituted worker groups, and document steps taken to implement recommendations, or reasons why recommendations not followed </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Unclear to what extent this intended to apply to small businesses, could create onerous obligations for both employers and employees</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Penalties for breaches</a:t>
            </a:r>
            <a:endParaRPr b="0" lang="en-US" sz="2400" spc="-1" strike="noStrike">
              <a:solidFill>
                <a:srgbClr val="000000"/>
              </a:solidFill>
              <a:latin typeface="Palatino Linotype"/>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ubstantial increase in range and level of penalties and sanction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kless conduct resulting in risk of death or serious injury – worker maximum fine up to $300,000; CEOs/senior officers up to $600,000; imprisonment up to 5 years</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Other fines for workers range from $50,000 up to $150,000</a:t>
            </a:r>
            <a:endParaRPr b="0" lang="en-US" sz="1600" spc="-1" strike="noStrike">
              <a:solidFill>
                <a:srgbClr val="000000"/>
              </a:solidFill>
              <a:latin typeface="Palatino Linotype"/>
            </a:endParaRPr>
          </a:p>
          <a:p>
            <a:pPr lvl="1" marL="743040" indent="-2858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an be subject to costs order; or mandatory compliance order</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Regulations</a:t>
            </a:r>
            <a:endParaRPr b="0" lang="en-US" sz="4000" spc="-1" strike="noStrike">
              <a:solidFill>
                <a:srgbClr val="000000"/>
              </a:solidFill>
              <a:latin typeface="Century Gothic"/>
            </a:endParaRPr>
          </a:p>
        </p:txBody>
      </p:sp>
      <p:sp>
        <p:nvSpPr>
          <p:cNvPr id="16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3" name="Rectangle 3"/>
          <p:cNvSpPr/>
          <p:nvPr/>
        </p:nvSpPr>
        <p:spPr>
          <a:xfrm>
            <a:off x="865080" y="1484280"/>
            <a:ext cx="7128000" cy="4857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Regulations will accompany the Health and Safety at Work Act – MBIE currently consulting on discussion document</a:t>
            </a: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gulations intended to address practices and requirements for:</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eneral risk and workplace managemen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er participation, engagement and representation</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 involving hazardous substances</a:t>
            </a:r>
            <a:endParaRPr b="0" lang="en-US" sz="1600" spc="-1" strike="noStrike">
              <a:solidFill>
                <a:srgbClr val="000000"/>
              </a:solidFill>
              <a:latin typeface="Palatino Linotype"/>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How this may affect duties of Ag pilots</a:t>
            </a:r>
            <a:br>
              <a:rPr sz="2400"/>
            </a:br>
            <a:endParaRPr b="0" lang="en-US" sz="24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detailed requirements for protective clothing and equipment</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More extensive and detailed emergency planning requirements, including an emergency response plan for incidents involving dangerous goods or hazardous substances</a:t>
            </a:r>
            <a:endParaRPr b="0" lang="en-US" sz="1600" spc="-1" strike="noStrike">
              <a:solidFill>
                <a:srgbClr val="000000"/>
              </a:solidFill>
              <a:latin typeface="Palatino Linotype"/>
            </a:endParaRPr>
          </a:p>
          <a:p>
            <a:pPr marL="285840" indent="-2858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Requirement to have someone trained in first aid and accessible at all times, including at remote bases or loc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5" name="Rectangle 1"/>
          <p:cNvSpPr/>
          <p:nvPr/>
        </p:nvSpPr>
        <p:spPr>
          <a:xfrm>
            <a:off x="1116000" y="765000"/>
            <a:ext cx="6912000" cy="6270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develop and implement procedures to manage risks to health and safety of workers carrying out remote or isolated work</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Detailed requirements relating to the use, handling, generation and storage of hazardous substances and dangerous goods, such a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eparing, maintaining and displaying an inventory of all hazardous substances used and stored on site;</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More specific requirements for storage and segregation (including minimum separation distances) of class 6, 8 and other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aving readily available and accessible, copies of the safety data sheet for persons handling or storing such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for workplace training and supervision of workers using hazardous substances</a:t>
            </a:r>
            <a:endParaRPr b="0" lang="en-US" sz="1600" spc="-1" strike="noStrike">
              <a:solidFill>
                <a:srgbClr val="000000"/>
              </a:solidFill>
              <a:latin typeface="Palatino Linotype"/>
            </a:endParaRPr>
          </a:p>
          <a:p>
            <a:pPr lvl="1" marL="7430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quirement to monitor health and safety of workers exposed to hazardous substances</a:t>
            </a:r>
            <a:endParaRPr b="0" lang="en-US" sz="1600" spc="-1" strike="noStrike">
              <a:solidFill>
                <a:srgbClr val="000000"/>
              </a:solidFill>
              <a:latin typeface="Palatino Linotype"/>
            </a:endParaRPr>
          </a:p>
          <a:p>
            <a:pPr marL="285840" indent="-28584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ill be offence not to comply with obligations/requirements under the Regulations – eg, not to hold any required qualifications/approvals to deal with hazardous substances, or not following mandatory practice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Oversight &amp; Enforcement</a:t>
            </a:r>
            <a:endParaRPr b="0" lang="en-US" sz="4000" spc="-1" strike="noStrike">
              <a:solidFill>
                <a:srgbClr val="000000"/>
              </a:solidFill>
              <a:latin typeface="Century Gothic"/>
            </a:endParaRPr>
          </a:p>
        </p:txBody>
      </p:sp>
      <p:sp>
        <p:nvSpPr>
          <p:cNvPr id="167"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68" name="Rectangle 3"/>
          <p:cNvSpPr/>
          <p:nvPr/>
        </p:nvSpPr>
        <p:spPr>
          <a:xfrm>
            <a:off x="865080" y="1413000"/>
            <a:ext cx="7128000" cy="471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WorkSafe NZ</a:t>
            </a:r>
            <a:br>
              <a:rPr sz="2400"/>
            </a:b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New government agency set up in 2013 to manage existing health and safety laws, transition into new legislative regime, and ongoing oversight and enforcemen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lready taking more active and visible role in enforcement – refer the two worker prosecution cases above</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Says it wants to work collaboratively with industries; joint focus on education and guidance, and enforcement</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Is developing generic and industry specific guidelines eg has published guidance for large companies on governance responsibilities jointly with Institute of Directors, working on small business guidelines</a:t>
            </a: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be seen: how they strike the right balance; also how much transition period the government allows to come into compliance</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Investigation of notifiable events</a:t>
            </a:r>
            <a:endParaRPr b="0" lang="en-US" sz="4000" spc="-1" strike="noStrike">
              <a:solidFill>
                <a:srgbClr val="000000"/>
              </a:solidFill>
              <a:latin typeface="Century Gothic"/>
            </a:endParaRPr>
          </a:p>
        </p:txBody>
      </p:sp>
      <p:sp>
        <p:nvSpPr>
          <p:cNvPr id="17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1" name="Rectangle 3"/>
          <p:cNvSpPr/>
          <p:nvPr/>
        </p:nvSpPr>
        <p:spPr>
          <a:xfrm>
            <a:off x="865080" y="1413000"/>
            <a:ext cx="7128000" cy="544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xtended obligations on PCBUs to report “notifiable events” to WorkSafe  NZ; these include notifiable injuries or illnesses, and notifiable incident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jury or illness = injuries or illnesses requiring immediate treatment including serious head injuries, eye injuries, burns, amputations; or admittance to hospital within 48 hour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fiable incidents = incident exposing a worker or any other person in the workplace to serious risk to health or safety arising from immediate or imminent exposure to certain specified even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cludes escape or spillage of substances, explosions, electric shocks</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carry out investigation, or require Duty Holder to complete ‘Duty Holder Review’ and file Review with WorkSafe NZ</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 may follow up investigation or review to ensure identified actions or remedial steps implemented or completed</a:t>
            </a: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mains to be seen – whether Duty Holder Reviews could lead to increased risk of enforcement action</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46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lp</a:t>
            </a:r>
            <a:endParaRPr b="0" lang="en-US" sz="4000" spc="-1" strike="noStrike">
              <a:solidFill>
                <a:srgbClr val="000000"/>
              </a:solidFill>
              <a:latin typeface="Century Gothic"/>
            </a:endParaRPr>
          </a:p>
        </p:txBody>
      </p:sp>
      <p:sp>
        <p:nvSpPr>
          <p:cNvPr id="173"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74" name="Rectangle 3"/>
          <p:cNvSpPr/>
          <p:nvPr/>
        </p:nvSpPr>
        <p:spPr>
          <a:xfrm>
            <a:off x="905040" y="1844640"/>
            <a:ext cx="7127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Need advice on health and safety laws, assistance with updating health and safety manual and policies, or help dealing with WorkSafe NZ?</a:t>
            </a:r>
            <a:endParaRPr b="0" lang="en-US" sz="2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33% discount on standard AMC Legal hourly rate to attendees of NZAAA Leadership Summit</a:t>
            </a: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WorkSafe NZ, NZ CAA, NZAAA guidance and advice available, publications available online</a:t>
            </a:r>
            <a:br>
              <a:rPr sz="2400"/>
            </a:br>
            <a:r>
              <a:rPr b="0" lang="en-NZ" sz="2400" spc="-1" strike="noStrike">
                <a:solidFill>
                  <a:srgbClr val="000000"/>
                </a:solidFill>
                <a:latin typeface="Palatino Linotype"/>
              </a:rPr>
              <a:t> </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9800" y="620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3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37" name="Rectangle 1"/>
          <p:cNvSpPr/>
          <p:nvPr/>
        </p:nvSpPr>
        <p:spPr>
          <a:xfrm>
            <a:off x="1116000" y="1413000"/>
            <a:ext cx="7058160" cy="43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in Employment Act 1992</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Key duties and applicability to Ag Pilot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Recent prosecutions of workers for HSE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form Bill</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Broad scope of reform and worker specific change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nalties for breaches</a:t>
            </a:r>
            <a:endParaRPr b="0" lang="en-US" sz="1600" spc="-1" strike="noStrike">
              <a:solidFill>
                <a:srgbClr val="000000"/>
              </a:solidFill>
              <a:latin typeface="Palatino Linotype"/>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Health and Safety Regulations </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troduction of new Regulations</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this may affect Ag Pilots</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Palatino Linotype"/>
              </a:rPr>
              <a:t>Oversight and Enforcement</a:t>
            </a:r>
            <a:endParaRPr b="0" lang="en-US" sz="24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orkSafe NZ</a:t>
            </a:r>
            <a:endParaRPr b="0" lang="en-US" sz="1600" spc="-1" strike="noStrike">
              <a:solidFill>
                <a:srgbClr val="000000"/>
              </a:solidFill>
              <a:latin typeface="Palatino Linotype"/>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Investigation of ‘notifiable event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44600" y="620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entury Gothic"/>
              </a:rPr>
              <a:t>Health and Safety in Employment Act 1992</a:t>
            </a:r>
            <a:endParaRPr b="0" lang="en-US" sz="4000" spc="-1" strike="noStrike">
              <a:solidFill>
                <a:srgbClr val="000000"/>
              </a:solidFill>
              <a:latin typeface="Century Gothic"/>
            </a:endParaRPr>
          </a:p>
        </p:txBody>
      </p:sp>
      <p:sp>
        <p:nvSpPr>
          <p:cNvPr id="139"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0" name="Rectangle 3"/>
          <p:cNvSpPr/>
          <p:nvPr/>
        </p:nvSpPr>
        <p:spPr>
          <a:xfrm>
            <a:off x="992160" y="1785960"/>
            <a:ext cx="7129440" cy="440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rPr>
              <a:t>Object: To promote the prevention of harm to all persons at work and other persons in, or in the vicinity of, a place of work</a:t>
            </a: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rPr>
              <a:t>Duties of employers</a:t>
            </a:r>
            <a:br>
              <a:rPr sz="2400"/>
            </a:br>
            <a:br>
              <a:rPr sz="2400"/>
            </a:br>
            <a:r>
              <a:rPr b="0" lang="en-NZ" sz="1600" spc="-1" strike="noStrike">
                <a:solidFill>
                  <a:srgbClr val="000000"/>
                </a:solidFill>
                <a:latin typeface="Palatino Linotype"/>
              </a:rPr>
              <a:t>Employers must take </a:t>
            </a:r>
            <a:r>
              <a:rPr b="1" i="1" lang="en-NZ" sz="1600" spc="-1" strike="noStrike">
                <a:solidFill>
                  <a:srgbClr val="000000"/>
                </a:solidFill>
                <a:latin typeface="Palatino Linotype"/>
              </a:rPr>
              <a:t>“all practicable steps”</a:t>
            </a:r>
            <a:r>
              <a:rPr b="0" i="1" lang="en-NZ" sz="1600" spc="-1" strike="noStrike">
                <a:solidFill>
                  <a:srgbClr val="000000"/>
                </a:solidFill>
                <a:latin typeface="Palatino Linotype"/>
              </a:rPr>
              <a:t>:</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o ensure the safety of employees, including to provide a safe work environment; ensure plant and equipment is safe for use; develop procedures for dealing with emergencies; and have systems to eliminate, isolate or minimise haz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That no action or inaction of any employee while at work harms any other person</a:t>
            </a: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600" spc="-1" strike="noStrike">
                <a:solidFill>
                  <a:srgbClr val="000000"/>
                </a:solidFill>
                <a:latin typeface="Palatino Linotype"/>
              </a:rPr>
              <a:t>Duty to provide adequate training and supervision of staff</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2" name="Rectangle 3"/>
          <p:cNvSpPr/>
          <p:nvPr/>
        </p:nvSpPr>
        <p:spPr>
          <a:xfrm>
            <a:off x="1042920" y="765000"/>
            <a:ext cx="6769080" cy="531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rincipals </a:t>
            </a:r>
            <a:br>
              <a:rPr sz="2400"/>
            </a:b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18: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rincipal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that no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contractor or subcontractor, or their employees, is harmed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while working for the principal</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persons controlling place of work</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NZ" sz="1600" spc="-1" strike="noStrike">
                <a:solidFill>
                  <a:srgbClr val="000000"/>
                </a:solidFill>
                <a:latin typeface="Palatino Linotype"/>
                <a:ea typeface="Arial"/>
              </a:rPr>
              <a:t>s16:</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Person who </a:t>
            </a:r>
            <a:r>
              <a:rPr b="1" lang="en-NZ" sz="1600" spc="-1" strike="noStrike">
                <a:solidFill>
                  <a:srgbClr val="000000"/>
                </a:solidFill>
                <a:latin typeface="Palatino Linotype"/>
                <a:ea typeface="Arial"/>
              </a:rPr>
              <a:t>controls place of work </a:t>
            </a:r>
            <a:r>
              <a:rPr b="0" lang="en-NZ" sz="1600" spc="-1" strike="noStrike">
                <a:solidFill>
                  <a:srgbClr val="000000"/>
                </a:solidFill>
                <a:latin typeface="Palatino Linotype"/>
                <a:ea typeface="Arial"/>
              </a:rPr>
              <a:t>must take </a:t>
            </a:r>
            <a:r>
              <a:rPr b="1" i="1" lang="en-NZ" sz="1600" spc="-1" strike="noStrike">
                <a:solidFill>
                  <a:srgbClr val="000000"/>
                </a:solidFill>
                <a:latin typeface="Palatino Linotype"/>
                <a:ea typeface="Arial"/>
              </a:rPr>
              <a:t>“all practicable </a:t>
            </a:r>
            <a:r>
              <a:rPr b="1" i="1" lang="en-NZ" sz="1600" spc="-1" strike="noStrike">
                <a:solidFill>
                  <a:srgbClr val="000000"/>
                </a:solidFill>
                <a:latin typeface="Palatino Linotype"/>
                <a:ea typeface="Arial"/>
              </a:rPr>
              <a:t>	</a:t>
            </a:r>
            <a:r>
              <a:rPr b="1" i="1" lang="en-NZ" sz="1600" spc="-1" strike="noStrike">
                <a:solidFill>
                  <a:srgbClr val="000000"/>
                </a:solidFill>
                <a:latin typeface="Palatino Linotype"/>
                <a:ea typeface="Arial"/>
              </a:rPr>
              <a:t>steps” </a:t>
            </a:r>
            <a:r>
              <a:rPr b="0" lang="en-NZ" sz="1600" spc="-1" strike="noStrike">
                <a:solidFill>
                  <a:srgbClr val="000000"/>
                </a:solidFill>
                <a:latin typeface="Palatino Linotype"/>
                <a:ea typeface="Arial"/>
              </a:rPr>
              <a:t>to ensure no hazard in workplace harms person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lawfully working in the workplace;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Duties of employees </a:t>
            </a:r>
            <a:br>
              <a:rPr sz="1000"/>
            </a:br>
            <a:br>
              <a:rPr sz="1000"/>
            </a:br>
            <a:r>
              <a:rPr b="0" lang="en-NZ" sz="1600" spc="-1" strike="noStrike">
                <a:solidFill>
                  <a:srgbClr val="000000"/>
                </a:solidFill>
                <a:latin typeface="Palatino Linotype"/>
                <a:ea typeface="Arial"/>
              </a:rPr>
              <a:t>s19:</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Employees must take </a:t>
            </a:r>
            <a:r>
              <a:rPr b="1" i="1" lang="en-NZ" sz="1600" spc="-1" strike="noStrike">
                <a:solidFill>
                  <a:srgbClr val="000000"/>
                </a:solidFill>
                <a:latin typeface="Palatino Linotype"/>
                <a:ea typeface="Arial"/>
              </a:rPr>
              <a:t>“all practicable steps” </a:t>
            </a:r>
            <a:r>
              <a:rPr b="0" lang="en-NZ" sz="1600" spc="-1" strike="noStrike">
                <a:solidFill>
                  <a:srgbClr val="000000"/>
                </a:solidFill>
                <a:latin typeface="Palatino Linotype"/>
                <a:ea typeface="Arial"/>
              </a:rPr>
              <a:t>to ensure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ir own safety at work; and that no action or inaction of </a:t>
            </a:r>
            <a:r>
              <a:rPr b="0" lang="en-NZ" sz="1600" spc="-1" strike="noStrike">
                <a:solidFill>
                  <a:srgbClr val="000000"/>
                </a:solidFill>
                <a:latin typeface="Palatino Linotype"/>
                <a:ea typeface="Arial"/>
              </a:rPr>
              <a:t>	</a:t>
            </a:r>
            <a:r>
              <a:rPr b="0" lang="en-NZ" sz="1600" spc="-1" strike="noStrike">
                <a:solidFill>
                  <a:srgbClr val="000000"/>
                </a:solidFill>
                <a:latin typeface="Palatino Linotype"/>
                <a:ea typeface="Arial"/>
              </a:rPr>
              <a:t>the employee while at work causes harm to any other person</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62856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entury Gothic"/>
              </a:rPr>
              <a:t>“</a:t>
            </a:r>
            <a:r>
              <a:rPr b="0" lang="en-NZ" sz="4400" spc="-1" strike="noStrike">
                <a:solidFill>
                  <a:srgbClr val="000000"/>
                </a:solidFill>
                <a:latin typeface="Century Gothic"/>
              </a:rPr>
              <a:t>All practicable steps”</a:t>
            </a:r>
            <a:endParaRPr b="0" lang="en-US" sz="4400" spc="-1" strike="noStrike">
              <a:solidFill>
                <a:srgbClr val="000000"/>
              </a:solidFill>
              <a:latin typeface="Century Gothic"/>
            </a:endParaRPr>
          </a:p>
        </p:txBody>
      </p:sp>
      <p:sp>
        <p:nvSpPr>
          <p:cNvPr id="144"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5" name="Rectangle 3"/>
          <p:cNvSpPr/>
          <p:nvPr/>
        </p:nvSpPr>
        <p:spPr>
          <a:xfrm>
            <a:off x="957240" y="1557360"/>
            <a:ext cx="7502400" cy="4202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1):  Must take all steps to achieve a safe result that it is </a:t>
            </a:r>
            <a:r>
              <a:rPr b="1" lang="en-NZ" sz="1600" spc="-1" strike="noStrike">
                <a:solidFill>
                  <a:srgbClr val="000000"/>
                </a:solidFill>
                <a:latin typeface="Palatino Linotype"/>
                <a:ea typeface="Arial"/>
              </a:rPr>
              <a:t>reasonably </a:t>
            </a:r>
            <a:r>
              <a:rPr b="1" lang="en-NZ" sz="1600" spc="-1" strike="noStrike">
                <a:solidFill>
                  <a:srgbClr val="000000"/>
                </a:solidFill>
                <a:latin typeface="Palatino Linotype"/>
                <a:ea typeface="Arial"/>
              </a:rPr>
              <a:t>	</a:t>
            </a:r>
            <a:r>
              <a:rPr b="1" lang="en-NZ" sz="1600" spc="-1" strike="noStrike">
                <a:solidFill>
                  <a:srgbClr val="000000"/>
                </a:solidFill>
                <a:latin typeface="Palatino Linotype"/>
                <a:ea typeface="Arial"/>
              </a:rPr>
              <a:t>  practicable</a:t>
            </a:r>
            <a:r>
              <a:rPr b="0" lang="en-NZ" sz="1600" spc="-1" strike="noStrike">
                <a:solidFill>
                  <a:srgbClr val="000000"/>
                </a:solidFill>
                <a:latin typeface="Palatino Linotype"/>
                <a:ea typeface="Arial"/>
              </a:rPr>
              <a:t> to take in the circumstances, having regard to </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nature and severity of any injury or harm that may occu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degree of risk or probability of injury or harm occurring</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How much is known about a hazard, and any means of eliminating, isolating or minimising the hazard</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The availability and cost of safeguards (weighed against the potential consequences of failing to provide those safeguard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2A(2):  Person required to take all practicable steps – only required to take those steps in respect of circumstances that the person knows </a:t>
            </a:r>
            <a:r>
              <a:rPr b="0" lang="en-NZ" sz="1600" spc="-1" strike="noStrike" u="sng">
                <a:solidFill>
                  <a:srgbClr val="000000"/>
                </a:solidFill>
                <a:uFillTx/>
                <a:latin typeface="Palatino Linotype"/>
                <a:ea typeface="Arial"/>
              </a:rPr>
              <a:t>or</a:t>
            </a:r>
            <a:r>
              <a:rPr b="0" lang="en-NZ" sz="1600" spc="-1" strike="noStrike">
                <a:solidFill>
                  <a:srgbClr val="000000"/>
                </a:solidFill>
                <a:latin typeface="Palatino Linotype"/>
                <a:ea typeface="Arial"/>
              </a:rPr>
              <a:t> ought reasonably to know about</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Judgment of what is “reasonably practicable” will take into account common practice and knowledge within an industry</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7" name="Rectangle 3"/>
          <p:cNvSpPr/>
          <p:nvPr/>
        </p:nvSpPr>
        <p:spPr>
          <a:xfrm>
            <a:off x="1116000" y="692280"/>
            <a:ext cx="6769080" cy="53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Applicability to Agricultural Air Operations</a:t>
            </a:r>
            <a:endParaRPr b="0" lang="en-US" sz="24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NZ" sz="1800" spc="-1" strike="noStrike">
                <a:solidFill>
                  <a:srgbClr val="000000"/>
                </a:solidFill>
                <a:latin typeface="Palatino Linotype"/>
                <a:ea typeface="Arial"/>
              </a:rPr>
              <a:t>Agricultural Air Operators:  Obligations/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rincipal</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Palatino Linotype"/>
                <a:ea typeface="Arial"/>
              </a:rPr>
              <a:t>Pilots:  Obligations / duties may arise as:</a:t>
            </a:r>
            <a:endParaRPr b="0" lang="en-US" sz="18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Employee</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ief Pilo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Person in control of a place of work, eg Base pilot CAR 137.203</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Palatino Linotype"/>
                <a:ea typeface="Arial"/>
              </a:rPr>
              <a:t>Penalties for breaches</a:t>
            </a:r>
            <a:br>
              <a:rPr sz="2400"/>
            </a:br>
            <a:br>
              <a:rPr sz="1800"/>
            </a:br>
            <a:r>
              <a:rPr b="0" lang="en-NZ" sz="1800" spc="-1" strike="noStrike">
                <a:solidFill>
                  <a:srgbClr val="000000"/>
                </a:solidFill>
                <a:latin typeface="Palatino Linotype"/>
                <a:ea typeface="Arial"/>
              </a:rPr>
              <a:t>Offences liable to conviction and fine of up to $250,000 and/or reparation orders for harm / loss caused</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49" name="Rectangle 3"/>
          <p:cNvSpPr/>
          <p:nvPr/>
        </p:nvSpPr>
        <p:spPr>
          <a:xfrm>
            <a:off x="826920" y="836640"/>
            <a:ext cx="7543800" cy="54205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rch 2014: Construction workers fined over fall from scaffolding</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pril 2013:  Construction site worker fell 3 metres after alterations to scaffolding left a trap door in a mobile scaffold deck unsecured, suffering three leg fractures and disloca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 and an employee of the scaffolding company prosecuted for failing to take all practicable steps to ensure that their actions or inactions at work did not cause harm to another pers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nstruction company site manager:</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Was in charge of managing the construction site, and employees and subcontractors working on the project</a:t>
            </a:r>
            <a:endParaRPr b="0" lang="en-US" sz="1600" spc="-1" strike="noStrike">
              <a:solidFill>
                <a:srgbClr val="000000"/>
              </a:solidFill>
              <a:latin typeface="Palatino Linotype"/>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Gave approval for two construction workers to raise the scaffolding deck by 500 millimetres, but:</a:t>
            </a:r>
            <a:br>
              <a:rPr sz="1600"/>
            </a:br>
            <a:r>
              <a:rPr b="0" lang="en-NZ" sz="1600" spc="-1" strike="noStrike">
                <a:solidFill>
                  <a:srgbClr val="000000"/>
                </a:solidFill>
                <a:latin typeface="Palatino Linotype"/>
                <a:ea typeface="Arial"/>
              </a:rPr>
              <a:t>-  neither held a current Certificate of Competence to do the work; and</a:t>
            </a:r>
            <a:br>
              <a:rPr sz="1600"/>
            </a:br>
            <a:r>
              <a:rPr b="0" lang="en-NZ" sz="1600" spc="-1" strike="noStrike">
                <a:solidFill>
                  <a:srgbClr val="000000"/>
                </a:solidFill>
                <a:latin typeface="Palatino Linotype"/>
                <a:ea typeface="Arial"/>
              </a:rPr>
              <a:t>-  he failed to notify the scaffolding company of the alterations</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1" name="Rectangle 3"/>
          <p:cNvSpPr/>
          <p:nvPr/>
        </p:nvSpPr>
        <p:spPr>
          <a:xfrm>
            <a:off x="826920" y="1052640"/>
            <a:ext cx="7543800" cy="429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responsible for conducting a regular weekly </a:t>
            </a:r>
            <a:br>
              <a:rPr sz="1600"/>
            </a:br>
            <a:r>
              <a:rPr b="0" lang="en-NZ" sz="1600" spc="-1" strike="noStrike">
                <a:solidFill>
                  <a:srgbClr val="000000"/>
                </a:solidFill>
                <a:latin typeface="Palatino Linotype"/>
                <a:ea typeface="Arial"/>
              </a:rPr>
              <a:t>check on the scaffolding </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hecked scaffolding the day before the accident and signed the scaffolding tag indicating it was safe to us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Noticed before leaving the site that the scaffold deck had been raised, but based on ground level observations he decided it was safe, and did not carry out further inspectio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Construction company site manager fined $4,500 and ordered to pay reparation of $7,844.25</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ea typeface="Arial"/>
              </a:rPr>
              <a:t>Scaffolding company employee fined $4,000 and ordered to pay reparation of $6,450.75</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2"/>
          <p:cNvSpPr/>
          <p:nvPr/>
        </p:nvSpPr>
        <p:spPr>
          <a:xfrm>
            <a:off x="395280" y="6381720"/>
            <a:ext cx="7504200" cy="291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www.amclegal.co.nz</a:t>
            </a:r>
            <a:endParaRPr b="0" lang="en-US" sz="1200" spc="-1" strike="noStrike">
              <a:solidFill>
                <a:srgbClr val="000000"/>
              </a:solidFill>
              <a:latin typeface="Palatino Linotype"/>
            </a:endParaRPr>
          </a:p>
        </p:txBody>
      </p:sp>
      <p:sp>
        <p:nvSpPr>
          <p:cNvPr id="153" name="Rectangle 3"/>
          <p:cNvSpPr/>
          <p:nvPr/>
        </p:nvSpPr>
        <p:spPr>
          <a:xfrm>
            <a:off x="684360" y="836640"/>
            <a:ext cx="7974000" cy="54968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Palatino Linotype"/>
              </a:rPr>
              <a:t>May 2014:  Quad bike rider fined for not using helmet</a:t>
            </a:r>
            <a:endParaRPr b="0" lang="en-US" sz="24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2012 - 2013:   WorkSafe NZ observed Herd Manager riding quad bike on a Marlborough farm on five separate occasions without a helmet, often while carrying children</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August 2013: His employer issued with a notice prohibiting the carrying of passengers on quad bikes while at work, and requiring the use of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Copy of Notice supplied to Herd Manager, and helmets were available on site</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Despite this, WorkSafe NZ inspector spotted him on October 3 onsite, carrying a child.  Neither were wearing helmets</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 </a:t>
            </a:r>
            <a:r>
              <a:rPr b="0" lang="en-NZ" sz="1600" spc="-1" strike="noStrike">
                <a:solidFill>
                  <a:srgbClr val="000000"/>
                </a:solidFill>
                <a:latin typeface="Palatino Linotype"/>
              </a:rPr>
              <a:t>Prosecuted for failing to take all practicable steps to ensure his own safety and that of his passenger while at work</a:t>
            </a:r>
            <a:br>
              <a:rPr sz="1600"/>
            </a:br>
            <a:r>
              <a:rPr b="0" lang="en-NZ" sz="1600" spc="-1" strike="noStrike">
                <a:solidFill>
                  <a:srgbClr val="000000"/>
                </a:solidFill>
                <a:latin typeface="Palatino Linotype"/>
              </a:rPr>
              <a:t> </a:t>
            </a:r>
            <a:endParaRPr b="0" lang="en-US" sz="1600" spc="-1" strike="noStrike">
              <a:solidFill>
                <a:srgbClr val="000000"/>
              </a:solidFill>
              <a:latin typeface="Palatino Linotype"/>
            </a:endParaRPr>
          </a:p>
          <a:p>
            <a:pPr>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Palatino Linotype"/>
              </a:rPr>
              <a:t>Fined $15,000</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23:40:59Z</dcterms:created>
  <dc:creator>Angela Joanne Beazer</dc:creator>
  <dc:description/>
  <dc:language>en-US</dc:language>
  <cp:lastModifiedBy>Angela Joanne Beazer</cp:lastModifiedBy>
  <cp:lastPrinted>2013-06-17T08:12:19Z</cp:lastPrinted>
  <dcterms:modified xsi:type="dcterms:W3CDTF">2014-07-20T04:18:18Z</dcterms:modified>
  <cp:revision>195</cp:revision>
  <dc:subject/>
  <dc:title>The FPP Test: What you need to know</dc:title>
</cp:coreProperties>
</file>