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8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0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5387-AD7C-4973-AC7A-BB9525AB7A8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366A-0387-4CB4-B6D7-D29644ACFF2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19DB-710F-475B-A2BC-EDF18BDF72F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95C9-6A55-46C9-BBE3-89FC85D2418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862-2667-49DD-B51B-A8333CD4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47F-AD2D-4AA5-B018-197A9A35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81F-8CC0-4B38-80F4-C4C8E810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626-7BD9-4884-9B34-C0DF7BF9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9842-F2E8-45A3-BD31-90A48A60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1D73-ABFE-4712-A3DF-CF898CAF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E2E0-B79E-4369-A8A3-8BE35433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7FA8-70C7-4A77-B309-D4046C80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9318-A396-4B5B-BE0A-2BADB1C3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BB89-5BF3-4B0A-BDEE-B4A0A146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99A7-6217-4A63-9959-47071E9A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044-1C55-4CCE-A939-34AD6EC8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9EE1-6BD2-4538-910D-C5C7F242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08A3-9260-478D-919C-24236BA4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7CC7-DE41-4FC1-B3C0-0947850E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E67C-C09B-4965-AD32-18059FA7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43D4-C19B-484B-BE5C-6DD49DC8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6E7-49A5-4E50-93C1-78192DB2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19D-434B-4169-8C07-64019093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F24-0CA6-4DA6-826C-C14F60B9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1C5-25CF-40F1-B109-A14CF814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9BE-8ADD-4891-A532-CD747BBD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371-4DAA-4773-A43C-EFC24D3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369-3E54-4ED2-BBB5-F2109657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2813-4926-4608-B701-54557EC29E8A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733B-B3AA-4503-88A4-1170CD342A5A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936F-9264-4031-891D-81A87AABC038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82DE-86AF-462B-9F22-B9D25EC20A0D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Aviation Industry Association 2013 Aviation Week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99520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Duties and obligations of Directors and offic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viation Industry Associatio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2013 Aviation Week conferenc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Easy Rider – what happened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755640" y="1433520"/>
            <a:ext cx="75754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Easy Rider capsized and sank in Foveaux Strait 15 March 2012, with the loss of eight lives and one surviv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TAIC Finding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vessel was loaded with too much weight, stacked too high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Vessel design flaws meant it had limited stability reserv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Weather forecast was for gale force winds, unsuitable for voyag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Large wave engulfed boat; caused the vessel to roll and capsiz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Insufficient life jackets on board for all persons; life raft only capable of holding four peopl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kipper did not hold required skippers certificate, and did not understand concept of vessel stabilit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Vessel was operating as commercial fishing vessel and was not authorised to carry passengers and their equipmen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secution – AZ1 Enterpris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826920" y="1341360"/>
            <a:ext cx="750276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Maritime Transport Act 1994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t operated the ship knowing that a maritime document was required (skippers certificate) and knowing it was not held: s68(2)(a) MTA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6(1)(a) – maximum fine $100,000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t caused or permitted the ship to be operated in a manner causing unnecessary danger or risk to the persons on board:  s65(2)(a) MTA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4(2)(a) – maximum fine $100,000</a:t>
            </a:r>
            <a:br>
              <a:rPr sz="14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Health and Safety in Employment Act 1982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an employer, it failed to take all practicable steps to ensure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employees while on board the ship:  s6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no action or inaction of any employee while at work harmed any other person on board the ship:  s15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principal, it failed to take all practicable steps to ensure that no contractor or subcontractor was harmed while doing work on board the ship that he was engaged to do:  s18 and 50(1)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Maximum fines up to $250,000 each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secution – Gloria Davi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85960" y="1181160"/>
            <a:ext cx="770544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Maritime Transport Act 1994 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s66 Crimes Act 1961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he operated the ship knowing that a maritime document was required (skippers certificate) and knowing it was not held: s68(2)(a) MTA 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6(1)(a) – maximum fine $10,000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he caused or permitted the ship to be operated in a manner causing unnecessary danger or risk to the persons on board:  s65(2)(a) MTA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4(2)(a) – maximum fine $10,000</a:t>
            </a:r>
            <a:br>
              <a:rPr sz="14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Health and Safety in Employment Act 1982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a director, she 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acquiesced and participated i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ilure of AZ1 Enterprises Ltd as an employer to take all practicable steps to ensure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employees while on board the ship:  s6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no action or inaction of any employee while at work harme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any other person on board the ship:  s15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a director, she 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acquiesced and participated i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ilure of AZ1 Enterprises Ltd as a principal to take all practicable steps to ensure that no contractor or subcontractor was harmed:  s18 and 50(1)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Maximum fines up to $250,000 each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557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ike River prosecu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900000" y="1557360"/>
            <a:ext cx="777564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Pike River Coal Ltd (in receivership) is awaiting sentencing for nine charges, of failing to take “all practicable steps” to ensure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employees: s6, s50(1) x 4 charg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contractors, subcontractors and their employees: s18, s50(1) x 4 charg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no action or inaction of its employees harmed another person: s15, s50(1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Peter Whittall (CEO) is facing trial as an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officer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 of the company, with twelve offence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he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acquiesced or participate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in the failures of Pike River Coal Ltd as an employer (x 4) and as a principal (x 4); and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he failed as an employee to take all practicable steps to ensure that no action or inaction of his harmed another person (x 4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Case law – director prosecution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755640" y="1557360"/>
            <a:ext cx="792000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Palatino Linotype"/>
              </a:rPr>
              <a:t>Department of Labour v IcePak Coolstores (2009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Fire alarm activated in coolstor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Fire brigade attended, entered and attempted to deal with source when there was an explosion – one fire fighter killed, seven injur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ompany had recently changed to a hydrocarbon-based refrigerant; environmentally friendlier and cheaper, but highly inflammabl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ystem put in place by contractor company Mobile Refrigeration Systems via its sole employee Mr Cook did not meet standards AS/NZS 1677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 continuous ventilation system, electrical equipment not explosion proof, inadequate gas detection device, no means of eliminating all sources of ignition on detection of a leak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xplosion caused by the leaking of a hydrocarbon-based refrigerant that somehow ignited – thought to be spark within the main switchboar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cePak Coolstores accepted its own safety systems and practices were inadequate, safety equipment available to staff was inadequat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84360" y="620640"/>
            <a:ext cx="720072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Palatino Linotype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cePak Coolstores pleaded guilty to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6 failing to take all practicable steps to ensure safety of its employees while at work ($30,000 fine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16(3) failing to warn person other than employee or contractor of risk of hazards ($95,000 reparation; fine $3,600*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Mobile Refrigeration Specialists pleaded guilty to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15 failing to take all practicable steps to ensure that no action or inaction of its employee Mr Cook while at work caused harm (reparation $175,000 and fine $56,000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ayne Grattan, Managing Director  of IcePak, pleaded guilty to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56,  as a director of the company he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acquiesced i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failure of IcePak Coolstores to ensure the safety of its employees while at work (fine $30,000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cePak and Mr Grattan – offending assessed as low-medium culpability, starting point $50,00; MRS as medium-high culpability, starting point $100,000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11280" y="641520"/>
            <a:ext cx="7705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Western Australian cas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ection 19 OSH Act – employer required “so far as is practicable” to provide and maintain a working environment in which employees are not exposed to hazard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55 OSH Act – a director, manager, secretary or other officer will also be guilty of the offence if attributable to their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consent, connivance or neglect”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Fry v Keating (2013), Western Australian Supreme Cour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Mr Murrie, rigger operator, killed when pack of 16 crane components weighing over 375kg fell from a crane and struck him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&amp;G Cranes prosecuted for breach of s19 OSH Act. Two directors prosecuted on the basis that the breach was attributable to their neglec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wo methods had been employed for lifting the crane packs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Method 1 – a safe and appropriate method where all parts securely encapsulat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Method 2 – unsafe method, where all parts were not secure and some at risk of falling; some riggers had been known to use this method in the pas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11280" y="641520"/>
            <a:ext cx="7705800" cy="67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 2004 risks of Method 2 identified and directors resolved that Method 1 should be the only method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vidence was that Yard Supervisor had number of administrative duties which prevented him from providing full attention to the work in the yard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 this instance, Method 2 had been used and the pack had slipp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Finding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ourt found D&amp;G Cranes failed to ensure Method 1 was in place and enforc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is omission caused Method 2 to be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Method 2 was extremely dangerous and its use demonstrated failure of D&amp;G Cranes, so far as practicable, to provide and maintain work environment where employees not exposed to risk of being injured or killed as a resul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&amp;G Crane’s failure caused the death of Mr Murri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two directors were guilty of the offence due to their neglect in ensuring Method 1 was used at all times; appeal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Appeal to WA Supreme Cour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upreme Court said the Directors were not remote from the business; they were hands on; in those circumstances, they were neglectful in being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unaware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that the supervision had broken down and in failing to enforce Method 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11280" y="641520"/>
            <a:ext cx="7705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Appeal to WA Court of Appeal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irectors appealed on grounds that prosecution had failed to prove that they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ought to have know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at Method 2 was being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irectors claimed there was a system in place to deal with unsafe work practices, including supervision by the Yard Supervisor; that they hired qualified riggers; neither director saw Method 2 being used when they visited the yard; one director was overseas at the time of the inciden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ppeal failed, Appeal Court highlighted fact that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ne of the employees had a consistent, documented induction proces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re was no written safe working procedure documenting Method 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employees had no formal training in Method 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 dedicated health and safety officer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yard supervisor’s duties required his attention away from the yar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Court held that the directors were not entitled to assume that Method 1 was being used at all times; they had a duty to take reasonable steps to ensure that it was in fact being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716040" y="620640"/>
            <a:ext cx="731196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Palatino Linotype"/>
              </a:rPr>
              <a:t>Comment on implications for Easy Rider / Pike River cas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acquiesced”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not defined in HSE; not tested in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IcePak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due to guilty pleas; DoL’s position was the director was aware of the circumstances, was in a position to do something about it, and failed to do so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estern Australian case – took view that directors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ought to have know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at the safe method was not being consistently used – refer s2A HS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IcePak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ct that Mr Grattan was a working director was considered relevant to DoL’s assessment that he was in a position to do something about it; in the Australian case, both directors also described as “hands on”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Easy Rider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- Open to interpretation how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acquiesced or participated in”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ill be applied to a “silent” director (assuming company found to have breached HSE Act) 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Pike River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– strong parallels to the facts in </a:t>
            </a: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IcePak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, regarding the reasons contributing to the explosion, and close involvement in the business; could result in liability for him as “officer” for acquiescing or participating in the breaches of the compan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98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1116000" y="1413000"/>
            <a:ext cx="705816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Statutory duties of directors and office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Company and commercial law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Industry Specific – Civil Aviation Act 1990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Health and Safety in Employment Act 1992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Easy Rider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What happen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Charges against AZ1 Enterprises Limited and Gloria Davi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Pike Riv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Charges against Pike River Coal Ltd and Peter Whittall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Case law on prosecution of directo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Current law reform and other initiativ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46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Current law reform initiativ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865080" y="1413000"/>
            <a:ext cx="71280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Palatino Linotype"/>
              </a:rPr>
              <a:t>Health and Safety in Employment Ac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Recommendations of Pike River Commission, and work of Government Task Force on health and safety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likely to result in specific duties for directors under the HS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likely to lead to greater enforcement of breaches by directors an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officers of compani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Likely to see introduction of corporate manslaughter charg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Minister of Labour indicates he does not favour extending this to individual officers, directors or employees, but early day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te also that individuals could be directly charged with manslaughter if causal link between death and conduct of individual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(refer: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R v Potts and Horrell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, convicted of manslaughter of pilot due to finding of gross negligence in performing maintenance work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46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Other initiativ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865080" y="1413000"/>
            <a:ext cx="7128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Palatino Linotype"/>
              </a:rPr>
              <a:t>Health and Safety in Employment guidelin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stitute of Directors and MBIE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Good Governance Practices and Guidelines for Managing Health and Safety Risks published (applies to 20+ employees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Guidelines for smaller companies being develop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Other industry specific guidelines exist – see MBIE websit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AA – SMS initiatives currently under way – consider integrating SMS to incorporate all aspects of health and safety systems and processes </a:t>
            </a:r>
            <a:br>
              <a:rPr sz="1600"/>
            </a:b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Commercial law reform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itiatives to introduce criminal offence provisions for breach of duties under Companies Act and Limited Partnerships Act – in particular, concerning duty not to carry on business in way that causes substantial losses to creditors; knowingly acting against best interests of compan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98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Statutory obligations and duti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792000" y="1484280"/>
            <a:ext cx="771876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Companies Act 199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Directors must manage, or direct or supervise the management of, the business and affairs of the company: s128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tatutory duties of directors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o act in good faith and best interests of company (s13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t to incur obligations or trade recklessly (ss135, 136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o exercise the care, skill and due diligence expected of directors exercising their powers under the Act (s137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Duties primarily owed to company; liquidator and creditors can also take action to enforce duties; could result in personal liability of director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Other commercial statutes may impose specific duties giving rise to civil and/or criminal liability – eg finance company prosecu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2"/>
          <p:cNvSpPr/>
          <p:nvPr/>
        </p:nvSpPr>
        <p:spPr>
          <a:xfrm>
            <a:off x="395280" y="6308640"/>
            <a:ext cx="7504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900000" y="836640"/>
            <a:ext cx="770436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Civil Aviation Act 1990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Definition of operate, in relation to an aircraft, includes “cause or permit” to be operated, whether or not the person is present with the aircraf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Offence provisions in the CA Act refer to persons who “cause or permit” an aircraft to be operated in a manner causing unnecessary danger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Easy Rider case – will test extent to which these provisions can apply to the director of an operator/owner company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iding or abetting, being party to offenc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Tax Administration Act 1994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148: Persons aiding or abetting offences may be prosecuted - could apply to directors – eg failure to account for PAY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Crimes Act 196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66:  Parties to an offence – includes a person who does or omits an act for the purpose of aiding any person to commit an offence; or incites, counsels or procures commission of off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46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Health and Safety in Employment Act 199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92160" y="1785960"/>
            <a:ext cx="7129440" cy="48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Object: To promote the prevention of harm to all persons at work and other persons in, or in the vicinity of, a place of work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employers</a:t>
            </a:r>
            <a:br>
              <a:rPr sz="2400"/>
            </a:br>
            <a:br>
              <a:rPr sz="24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mployers must take “all practicable steps” to ensure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6: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safety of employees while at work including to: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provide a safe work environmen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ensure that plant and equipment is safe for us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have systems to eliminate, isolate or minimise hazard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develop procedures for dealing with emergencies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5: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at no action or inaction of any employee while at work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harms any other person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3: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uty to provide adequate training and supervision of staff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765000"/>
            <a:ext cx="676908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princip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8: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Principals must take “all practicable steps” to ensure that no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ontractor or subcontractor, or their employees, is harme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hile working for the principal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persons controlling place of wor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6: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Person who controls place of work must take “all practicable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teps” to ensure no hazard in workplace harms perso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lawfully working in the workplace;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employees </a:t>
            </a:r>
            <a:br>
              <a:rPr sz="1000"/>
            </a:br>
            <a:br>
              <a:rPr sz="10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9: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mployees must take “all practicable steps” to ensure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ir own safety at work; and that no action or inaction of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employee while at work causes harm to any other person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971640" y="692280"/>
            <a:ext cx="7200720" cy="54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No specific duties for directors or officers BUT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56(1) Directors, officers or agents who have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directed, authorised, assented to, acquiesced in, or participated in”,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ilure of a body corporate to comply with the Act, is party to and guilty of the failure, and subject to same penalties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56(2) Extends to directors, officers, agents or senior managers of Crown organisations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pplies whether or not the entity is prosecuted =  liquidation of company does not prohibit action against director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Contravention of above provisions by any person is an offence liable to conviction and fine of up to $250,000:  s50(1)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Note – reparation orders must also be considered – Sentencing Act requirement – this may affect level of any fines impo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285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All practicable steps”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57240" y="1557360"/>
            <a:ext cx="750240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2A(1):  Must take all steps to achieve a safe result that it is 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reasonably 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  practicable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to take in the circumstances, having regard to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nature and severity of any injury or harm that may occur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degree of risk or probability of injury or harm occurring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How much is known about a hazard, and any means of eliminating, isolating or minimising the hazar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availability and cost of safeguards (weighed against the potential consequences of failing to provide those safeguards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2A(2):  Person required to take all practicable steps – only required to take those steps in respect of circumstances that the person knows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or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ought reasonably to know about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Judgment of what is “reasonably practicable” will take into account common practice and knowledge within an industr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-21690" t="-2432" r="-12639" b="5039"/>
          <a:stretch/>
        </p:blipFill>
        <p:spPr>
          <a:xfrm>
            <a:off x="-6727680" y="-3195720"/>
            <a:ext cx="19224360" cy="113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cp:lastPrinted>2013-06-23T22:13:25Z</cp:lastPrinted>
  <dcterms:modified xsi:type="dcterms:W3CDTF">2013-07-17T22:26:21Z</dcterms:modified>
  <cp:revision>124</cp:revision>
  <dc:subject/>
  <dc:title>The FPP Test: What you need to know</dc:title>
</cp:coreProperties>
</file>